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5432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4704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160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5432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4704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92120" y="228240"/>
            <a:ext cx="7385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5432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74704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6160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5432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74704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2120" y="228240"/>
            <a:ext cx="7385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90400" y="790560"/>
            <a:ext cx="7639200" cy="0"/>
          </a:xfrm>
          <a:prstGeom prst="line">
            <a:avLst/>
          </a:prstGeom>
          <a:ln w="12600">
            <a:solidFill>
              <a:srgbClr val="004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70720" y="0"/>
            <a:ext cx="7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6F03F-F7C1-40BF-AD26-2B624024036D}" type="slidenum">
              <a:rPr b="0" lang="en-US" sz="1200" spc="-1" strike="noStrike">
                <a:solidFill>
                  <a:srgbClr val="00306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4" name="band" descr=""/>
          <p:cNvPicPr/>
          <p:nvPr/>
        </p:nvPicPr>
        <p:blipFill>
          <a:blip r:embed="rId2"/>
          <a:stretch/>
        </p:blipFill>
        <p:spPr>
          <a:xfrm>
            <a:off x="0" y="6337440"/>
            <a:ext cx="9144000" cy="52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968960" y="6616800"/>
            <a:ext cx="12740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Folie Nr.  </a:t>
            </a:r>
            <a:fld id="{203CF1FD-C19E-4259-A5CB-07FDE04C68E2}" type="slidenum"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42" name="band" descr=""/>
          <p:cNvPicPr/>
          <p:nvPr/>
        </p:nvPicPr>
        <p:blipFill>
          <a:blip r:embed="rId2"/>
          <a:stretch/>
        </p:blipFill>
        <p:spPr>
          <a:xfrm>
            <a:off x="0" y="6337440"/>
            <a:ext cx="9144000" cy="52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81080" y="2514600"/>
            <a:ext cx="540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rame Body Concept</a:t>
            </a:r>
            <a:endParaRPr b="0" lang="en-US" sz="40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1960" y="1828800"/>
            <a:ext cx="6823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Memory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tion Memory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r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aphore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 handling (HISR)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92120" y="1143000"/>
            <a:ext cx="78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l-time Operating System (Nucleus)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4994280" y="4114800"/>
            <a:ext cx="2813040" cy="236232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994280" y="2666880"/>
            <a:ext cx="3868560" cy="152424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94280" y="2209680"/>
            <a:ext cx="3868560" cy="38124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492120" y="1676160"/>
            <a:ext cx="2743200" cy="243828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ame Body Concept -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2280" y="914400"/>
            <a:ext cx="478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181240" y="2362320"/>
            <a:ext cx="46418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532240" y="990720"/>
            <a:ext cx="4360680" cy="707760"/>
          </a:xfrm>
          <a:prstGeom prst="rect">
            <a:avLst/>
          </a:prstGeom>
          <a:noFill/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798720" y="3657600"/>
            <a:ext cx="1828800" cy="862560"/>
          </a:xfrm>
          <a:prstGeom prst="rect">
            <a:avLst/>
          </a:prstGeom>
          <a:noFill/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S Layer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798720" y="5105520"/>
            <a:ext cx="1828800" cy="862560"/>
          </a:xfrm>
          <a:prstGeom prst="rect">
            <a:avLst/>
          </a:prstGeom>
          <a:noFill/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TO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713120" y="1676520"/>
            <a:ext cx="0" cy="53316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713120" y="3048120"/>
            <a:ext cx="0" cy="60948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713120" y="4495680"/>
            <a:ext cx="0" cy="60984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35320" y="1204920"/>
            <a:ext cx="563400" cy="45720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I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30880" y="3657600"/>
            <a:ext cx="563400" cy="45720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165480" y="2209680"/>
            <a:ext cx="2462040" cy="862560"/>
          </a:xfrm>
          <a:prstGeom prst="rect">
            <a:avLst/>
          </a:prstGeom>
          <a:noFill/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30880" y="2209680"/>
            <a:ext cx="563400" cy="45720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SI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3516480" y="1676160"/>
            <a:ext cx="0" cy="53316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30880" y="2666880"/>
            <a:ext cx="1828800" cy="152424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92120" y="1905120"/>
            <a:ext cx="1689120" cy="236196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i_create(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i_init(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i_exit(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i_primitive(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i_signal(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i_timeout(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i_config(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i_run(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92120" y="1218960"/>
            <a:ext cx="2743200" cy="68580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2181240" y="1676160"/>
            <a:ext cx="1617480" cy="243828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259680" y="4876920"/>
            <a:ext cx="1547640" cy="160020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s_...Task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s_...Queue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s_...Timer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s_...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Semaphore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s_...Memory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os_...Drv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94280" y="3657600"/>
            <a:ext cx="2813040" cy="121932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259680" y="2590920"/>
            <a:ext cx="2603160" cy="160020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si_c_...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Communication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si_t_...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Timer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si_s_...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Semaphore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si_m_...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Memory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si_d_...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Driver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si_o_...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Output/Trace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430880" y="4114800"/>
            <a:ext cx="1828800" cy="236232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ame Body Concept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2120" y="1295280"/>
            <a:ext cx="78897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ame Functionality &amp; Interfaces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Test Interface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System Setup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Layer 1 Interface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– Entity Interface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96440" y="1055520"/>
            <a:ext cx="62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rotocol Stack Entity Interface (PEI)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92120" y="1600200"/>
            <a:ext cx="7034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i_create() - export entity creation parameter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i_init() - open communication channels, initialize entity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i_exit() - close communication channels, free resource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i_primitive() - process primitive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i_timeout() - process timeout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i_signal() - process signal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i_config() - dynamic entity configuration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i_run() - main loop for active body configuration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– Entity Interface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97160" y="1055520"/>
            <a:ext cx="633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arameters exported by pei_create()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84240" y="1676520"/>
            <a:ext cx="7034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ic T_PEI_INFO pei_info =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C_NAME,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/* pei-table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i_init,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i_exit,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i_primitive,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i_timeout,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,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/* pei_signal, 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,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/* pei_run,    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,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/* pei_config, 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i_monitor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},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C_STACK_SIZE,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C_QUEUE_ENTRIES,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C_PRIORITY,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C_TIMERS,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C_PROC_TYP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/* ACTIVE/PASSIVE body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- Startup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9680" y="903240"/>
            <a:ext cx="685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ystem Startup (1) – Root Task Context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25360" y="4267080"/>
            <a:ext cx="7034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Task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668520" indent="-25704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pei_create() functions from task list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668520" indent="-25704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tasks with the parameters exported by pei_create() 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33240" y="1676520"/>
            <a:ext cx="54864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cleus initialization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of Application_Initialize()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of StartFrame()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125360" y="3048120"/>
            <a:ext cx="3657600" cy="12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Frame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memory pool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global table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25360" y="5775480"/>
            <a:ext cx="316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Task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- Startup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8960" y="903240"/>
            <a:ext cx="737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ystem Startup (2) – Created Task Context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61960" y="1523880"/>
            <a:ext cx="7439040" cy="37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askEntry ( TaskHandle ) called by the RTO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reate input queue 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tity initialization -&gt; pei_init()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 ACTIVE_BODY)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ei_run()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1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* PASSIVE_BODY */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ait for message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ess message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33240" y="5410080"/>
            <a:ext cx="6612120" cy="11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ame task entry function for all task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task has its own stack, stack size and priority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492120" y="803160"/>
            <a:ext cx="12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ask List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059200" y="901800"/>
            <a:ext cx="6352920" cy="57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const T_COMPONENT_ADDRESS sim_list[] =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{ sim_pei_create,      NULL,   ASSIGNED_BY_CONDAT },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{ NULL,                NULL,   0 }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const T_COMPONENT_ADDRESS mmgmm_list[] =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{ mm_pei_create,       NULL,   ASSIGNED_BY_CONDAT },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{ gmm_pei_create,      NULL,   ASSIGNED_BY_CONDAT },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{ NULL,                NULL,   (int)"MMGMM" }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const T_COMPONENT_ADDRESS rr_list[] =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{ rr_pei_create,       NULL,   ASSIGNED_BY_CONDAT },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{ NULL,                NULL,   0 }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const T_COMPONENT_ADDRESS *ComponentTables[]=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sim_list,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mmgmm_list,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rr_list,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br>
              <a:rPr sz="1500"/>
            </a:b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- Startup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- Startup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96440" y="903240"/>
            <a:ext cx="366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ctive/Passive Body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547640" y="2057400"/>
            <a:ext cx="66121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92120" y="1905120"/>
            <a:ext cx="84232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ve Body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assive Body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in Loop Locatio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in Loop Functio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ei_run(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f_TaskEntry()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unctionality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ustomer define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aiting for message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cessing message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61960" y="2286000"/>
            <a:ext cx="703440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019320" y="1981080"/>
            <a:ext cx="0" cy="190512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10080" y="1981080"/>
            <a:ext cx="0" cy="190512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92120" y="4876920"/>
            <a:ext cx="83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election of active or passive is done with flags exported by pei_create()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- Startup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95720" y="903240"/>
            <a:ext cx="32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Create New Entity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33240" y="1752480"/>
            <a:ext cx="7315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pei interface by using the template xxx_pei.c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address of xxx_pei_create() to task list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source files for further functionality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ame Body Concept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92120" y="1447920"/>
            <a:ext cx="7966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ame Functionality &amp; Interfaces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st Interface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stem Setup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yer 1 Interface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- Startup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97520" y="90324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sk Management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22280" y="1658880"/>
            <a:ext cx="8493120" cy="27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ocol Stack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ocol stack entities run in their own RTOS task or may be     grouped in one task, e.g. CC, SS, SMS, SM are grouped to the CM task.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s are created at initialization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priorities set during initialization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duling is done by RTOS (preemptive multitasking)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0880" y="4495680"/>
            <a:ext cx="8580600" cy="12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me as shared DLL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applications are dynamically started and stopped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842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– Memory Management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98240" y="903240"/>
            <a:ext cx="588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artition Memory Management (1)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33240" y="1676520"/>
            <a:ext cx="8053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ed sized buffers of different sizes -&gt;xxxconst.h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memory :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LLOC(size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&gt; vsi_m_new(size)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FREE(ptr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&gt; vsi_m_free(ptr)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676520" y="4191120"/>
            <a:ext cx="4572000" cy="53316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1676520" y="4724280"/>
            <a:ext cx="0" cy="53352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447920" y="5257800"/>
            <a:ext cx="5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tr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676520" y="3962520"/>
            <a:ext cx="3897360" cy="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900080" y="3581280"/>
            <a:ext cx="17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143000" y="4191120"/>
            <a:ext cx="544680" cy="53316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219320" y="4343400"/>
            <a:ext cx="457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ITC Officina Sans Book"/>
              </a:rPr>
              <a:t>cnt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91760" y="228240"/>
            <a:ext cx="811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– Memory Management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98240" y="903240"/>
            <a:ext cx="588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artition Memory Management (2)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33240" y="1676520"/>
            <a:ext cx="7901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primitives: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LLOC(nam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&gt; vsi_c_new(size)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FREE(ptr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&gt; vsi_c_free(ptr)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84240" y="3733920"/>
            <a:ext cx="5769000" cy="53316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2390760" y="4267080"/>
            <a:ext cx="0" cy="53352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179800" y="4724280"/>
            <a:ext cx="56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tr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362320" y="3505320"/>
            <a:ext cx="3429000" cy="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32240" y="3124080"/>
            <a:ext cx="17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984240" y="3733920"/>
            <a:ext cx="1406520" cy="53316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25360" y="38098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055520" y="5410080"/>
            <a:ext cx="66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imitive header is initialized by the VSI functions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842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– Memory Management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98240" y="903240"/>
            <a:ext cx="588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artition Memory Management (3)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985680" y="3733920"/>
            <a:ext cx="5767560" cy="53316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2392200" y="4266720"/>
            <a:ext cx="0" cy="38124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181240" y="4572000"/>
            <a:ext cx="56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tr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362320" y="3505320"/>
            <a:ext cx="1858680" cy="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533680" y="3124080"/>
            <a:ext cx="17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985680" y="3733920"/>
            <a:ext cx="1406520" cy="53316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28600" y="3809880"/>
            <a:ext cx="91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392200" y="3809880"/>
            <a:ext cx="1828800" cy="38124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221000" y="3505320"/>
            <a:ext cx="2027520" cy="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573440" y="3124080"/>
            <a:ext cx="17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uess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33240" y="1523880"/>
            <a:ext cx="6892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11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pimitives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marL="308520" indent="-308520">
              <a:lnSpc>
                <a:spcPct val="11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PO_ALLOC(name,gues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si_drpo_new(size,opc,guess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3938760" y="3809880"/>
            <a:ext cx="1547280" cy="1099440"/>
            <a:chOff x="3938760" y="3809880"/>
            <a:chExt cx="1547280" cy="1099440"/>
          </a:xfrm>
        </p:grpSpPr>
        <p:sp>
          <p:nvSpPr>
            <p:cNvPr id="285" name=""/>
            <p:cNvSpPr/>
            <p:nvPr/>
          </p:nvSpPr>
          <p:spPr>
            <a:xfrm>
              <a:off x="4219920" y="3809880"/>
              <a:ext cx="1266120" cy="381240"/>
            </a:xfrm>
            <a:prstGeom prst="rect">
              <a:avLst/>
            </a:prstGeom>
            <a:solidFill>
              <a:srgbClr val="b4d9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938760" y="3962520"/>
              <a:ext cx="562680" cy="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4219920" y="4266720"/>
              <a:ext cx="0" cy="38124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008960" y="4572000"/>
              <a:ext cx="56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tr1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633240" y="2362320"/>
            <a:ext cx="6612120" cy="3918600"/>
            <a:chOff x="633240" y="2362320"/>
            <a:chExt cx="6612120" cy="3918600"/>
          </a:xfrm>
        </p:grpSpPr>
        <p:grpSp>
          <p:nvGrpSpPr>
            <p:cNvPr id="290" name=""/>
            <p:cNvGrpSpPr/>
            <p:nvPr/>
          </p:nvGrpSpPr>
          <p:grpSpPr>
            <a:xfrm>
              <a:off x="984600" y="3962520"/>
              <a:ext cx="5064480" cy="2318400"/>
              <a:chOff x="984600" y="3962520"/>
              <a:chExt cx="5064480" cy="2318400"/>
            </a:xfrm>
          </p:grpSpPr>
          <p:sp>
            <p:nvSpPr>
              <p:cNvPr id="291" name=""/>
              <p:cNvSpPr/>
              <p:nvPr/>
            </p:nvSpPr>
            <p:spPr>
              <a:xfrm>
                <a:off x="984600" y="5105520"/>
                <a:ext cx="5064480" cy="533160"/>
              </a:xfrm>
              <a:prstGeom prst="rect">
                <a:avLst/>
              </a:prstGeom>
              <a:solidFill>
                <a:srgbClr val="b4d9ff"/>
              </a:solidFill>
              <a:ln w="1260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984600" y="5105520"/>
                <a:ext cx="1406880" cy="533160"/>
              </a:xfrm>
              <a:prstGeom prst="rect">
                <a:avLst/>
              </a:prstGeom>
              <a:solidFill>
                <a:srgbClr val="b4d9ff"/>
              </a:solidFill>
              <a:ln w="1260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126800" y="5181480"/>
                <a:ext cx="91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Header</a:t>
                </a:r>
                <a:endParaRPr b="0" lang="en-US" sz="16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391480" y="5181480"/>
                <a:ext cx="3024360" cy="381240"/>
              </a:xfrm>
              <a:prstGeom prst="rect">
                <a:avLst/>
              </a:prstGeom>
              <a:solidFill>
                <a:srgbClr val="b4d9ff"/>
              </a:solidFill>
              <a:ln w="1260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984600" y="3962520"/>
                <a:ext cx="1195920" cy="1143000"/>
              </a:xfrm>
              <a:prstGeom prst="line">
                <a:avLst/>
              </a:prstGeom>
              <a:ln w="1260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2391120" y="3962520"/>
                <a:ext cx="703080" cy="1218960"/>
              </a:xfrm>
              <a:prstGeom prst="line">
                <a:avLst/>
              </a:prstGeom>
              <a:ln w="1260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2391480" y="5638320"/>
                <a:ext cx="0" cy="381240"/>
              </a:xfrm>
              <a:prstGeom prst="line">
                <a:avLst/>
              </a:prstGeom>
              <a:ln w="1260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180520" y="5943600"/>
                <a:ext cx="563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tr2</a:t>
                </a:r>
                <a:endParaRPr b="0" lang="en-US" sz="16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>
              <a:off x="633240" y="2362320"/>
              <a:ext cx="6612120" cy="3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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_ALLOC(ptr,size)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&gt;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si_dp_new(ptr,size)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633240" y="2743200"/>
            <a:ext cx="6120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(ptr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si_free(ptr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- Communication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22280" y="1143000"/>
            <a:ext cx="689292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Input Message Queue for each Entity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itiv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&gt; low priority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a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&gt; high priority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ion between Entities with primitive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cate a memory partition (PALLOC)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primitive data in partition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partition address to destination queue (PSEND)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partition address from input queue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primitive - Call pei_primitive()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 partition (PFREE)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- Communication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89600" y="838080"/>
            <a:ext cx="481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xample Interprocess Communication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547640" y="1752480"/>
            <a:ext cx="66121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73280" y="1587600"/>
            <a:ext cx="1407960" cy="45720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73280" y="1663560"/>
            <a:ext cx="140796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73280" y="1739880"/>
            <a:ext cx="140796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73280" y="2197080"/>
            <a:ext cx="1407960" cy="83808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73280" y="3187800"/>
            <a:ext cx="1407960" cy="129528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73280" y="4635360"/>
            <a:ext cx="1407960" cy="167652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73280" y="2349360"/>
            <a:ext cx="140796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73280" y="2502000"/>
            <a:ext cx="140796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73280" y="3492360"/>
            <a:ext cx="140796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73280" y="3797280"/>
            <a:ext cx="140796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73280" y="5245200"/>
            <a:ext cx="140796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73280" y="5854680"/>
            <a:ext cx="140796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9680" y="1206360"/>
            <a:ext cx="257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 Allocate Partition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376440" y="1892160"/>
            <a:ext cx="1054440" cy="30492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376440" y="2273400"/>
            <a:ext cx="0" cy="15228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095640" y="2392200"/>
            <a:ext cx="10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ddr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446640" y="3416400"/>
            <a:ext cx="1687320" cy="38088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133960" y="3187800"/>
            <a:ext cx="985680" cy="83808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376440" y="2730600"/>
            <a:ext cx="0" cy="30456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76440" y="3035160"/>
            <a:ext cx="147672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572000" y="3416400"/>
            <a:ext cx="0" cy="38088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330960" y="2697120"/>
            <a:ext cx="20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Send Primitive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330960" y="1859040"/>
            <a:ext cx="264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 Store Primitive Data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853160" y="3035160"/>
            <a:ext cx="0" cy="38124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03440" y="1249200"/>
            <a:ext cx="23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tion Pool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315120" y="4102200"/>
            <a:ext cx="23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. Receive Primitive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259680" y="4940280"/>
            <a:ext cx="25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5. Process Primitive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45280" y="5473800"/>
            <a:ext cx="26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Deallocate Partition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376440" y="4940280"/>
            <a:ext cx="1054440" cy="30492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853160" y="3797280"/>
            <a:ext cx="0" cy="38088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376440" y="4178160"/>
            <a:ext cx="147672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165480" y="437364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ddr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376440" y="4711680"/>
            <a:ext cx="0" cy="15228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376440" y="4178160"/>
            <a:ext cx="0" cy="30492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332320" y="18525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32240" y="3416400"/>
            <a:ext cx="102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3376440" y="1434600"/>
            <a:ext cx="0" cy="38124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181240" y="3263760"/>
            <a:ext cx="20952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2390760" y="1434960"/>
            <a:ext cx="0" cy="182880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376440" y="5321160"/>
            <a:ext cx="0" cy="38124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81240" y="3416400"/>
            <a:ext cx="20952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390760" y="3416400"/>
            <a:ext cx="0" cy="228600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587680" y="1206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ddr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390760" y="1434960"/>
            <a:ext cx="21132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165480" y="1434960"/>
            <a:ext cx="21096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02080" y="547380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ddr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390760" y="5702400"/>
            <a:ext cx="21132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65480" y="5702400"/>
            <a:ext cx="21096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4430880" y="2044800"/>
            <a:ext cx="352080" cy="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771080" y="18525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782960" y="4940280"/>
            <a:ext cx="7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430880" y="5092560"/>
            <a:ext cx="352080" cy="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477720" y="1020600"/>
            <a:ext cx="7932960" cy="50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pression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ntity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 proces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imitiv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 struct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AP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 number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 input queue per proces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037200" y="2108160"/>
            <a:ext cx="2098800" cy="91440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ntity = proces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095880" y="3975120"/>
            <a:ext cx="2098800" cy="91440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ntity = proces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139160" y="2997360"/>
            <a:ext cx="0" cy="96516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139160" y="4902120"/>
            <a:ext cx="0" cy="9651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139160" y="1143000"/>
            <a:ext cx="0" cy="9651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583160" y="2577960"/>
            <a:ext cx="14428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3160" y="2514600"/>
            <a:ext cx="1442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181480" y="4406760"/>
            <a:ext cx="8794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192640" y="4470480"/>
            <a:ext cx="87948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05240" y="4483080"/>
            <a:ext cx="0" cy="12700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595760" y="2590920"/>
            <a:ext cx="0" cy="1079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595760" y="1257480"/>
            <a:ext cx="0" cy="1269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670800" y="3022560"/>
            <a:ext cx="0" cy="3301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192640" y="3340080"/>
            <a:ext cx="0" cy="1054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670800" y="3645000"/>
            <a:ext cx="0" cy="3301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5181120" y="3340080"/>
            <a:ext cx="14893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4606560" y="3645000"/>
            <a:ext cx="2050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232040" y="330048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5fa"/>
                </a:solidFill>
                <a:latin typeface="Arial"/>
              </a:rPr>
              <a:t>SAP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232040" y="14335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AP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244640" y="51800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SAP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183640" y="4540320"/>
            <a:ext cx="7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Arial"/>
              </a:rPr>
              <a:t>queue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955040" y="2511360"/>
            <a:ext cx="7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Arial"/>
              </a:rPr>
              <a:t>queue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- Communication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- Communication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31480" y="914400"/>
            <a:ext cx="381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ITC Officina Sans Book"/>
              </a:rPr>
              <a:t>Primitive Processing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22280" y="1676520"/>
            <a:ext cx="6611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er in each primitiv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 code (opc) 16/32 bit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P number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itive number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link/downlink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/system primitiv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176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– Timer Management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96800" y="903240"/>
            <a:ext cx="34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Tim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92120" y="1371600"/>
            <a:ext cx="743256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r start request by an entity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starts RTOS timer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ENTION: timer index has to be in the range between 0 and the number of timers exported by pei_create(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iration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TOS calls timeout routine in the frame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calls pei_timeout() in the body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ed up/slow down/suppres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92120" y="4876920"/>
            <a:ext cx="865188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HORT vsi_t_star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 T_HANDLE caller, USHORT index, T_TIME time 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HORT vsi_t_stop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 T_HANDLE caller, USHORT index 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HORT vsi_t_status ( T_HANDLE caller, USHORT index, T_TIME *time 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HORT vsi_t_config (T_HANDLE caller, USHORT index, UBYTE mode, ULONG value 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849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– Semaphore Management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8600" y="903240"/>
            <a:ext cx="438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maphore Management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2120" y="1371600"/>
            <a:ext cx="66121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semaphore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if not existing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handle if existing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count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tain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22280" y="4419720"/>
            <a:ext cx="78073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_HANDLE vsi_s_open ( T_HANDLE caller, char *name, USHORT count 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HOR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si_s_get ( T_HANDLE caller, T_HANDLE handle 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HORT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si_s_release ( T_HANDLE caller, T_HANDLE handle 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HORT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si_s_status (T_HANDLE caller, T_HANDLE handle, USHORT *count 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ame Body Concept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92120" y="1371600"/>
            <a:ext cx="8042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Frame Functionality &amp; Interfaces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Test Interface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System Setup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Layer 1 Interface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- Routing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96440" y="903240"/>
            <a:ext cx="152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2120" y="1523880"/>
            <a:ext cx="75088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irection and duplication of primitive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configuration via test interfac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ters available to select a subset of primitive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92120" y="3276720"/>
            <a:ext cx="851076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R DUPLICATE MM PC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primitives RR sends to MM are duplicated to PCO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R REDIRECT ALL TA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primitives RR sends are redirected to TAP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M DUPLICATE RR 0000011000000001 PCO      duplicate RR_ACTIVATE_REQ to PCO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R REDIRECT MM NUL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primitives RR sends to MM are discarded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R REDIRECT CLEA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ean all redirections of RR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- Routing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97520" y="903240"/>
            <a:ext cx="391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outing - Observation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92120" y="1523880"/>
            <a:ext cx="661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itoring of primitive communication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633240" y="2629080"/>
            <a:ext cx="4149720" cy="3390840"/>
            <a:chOff x="633240" y="2629080"/>
            <a:chExt cx="4149720" cy="3390840"/>
          </a:xfrm>
        </p:grpSpPr>
        <p:sp>
          <p:nvSpPr>
            <p:cNvPr id="401" name=""/>
            <p:cNvSpPr/>
            <p:nvPr/>
          </p:nvSpPr>
          <p:spPr>
            <a:xfrm>
              <a:off x="633240" y="2629080"/>
              <a:ext cx="4149720" cy="3390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17920" y="3344760"/>
              <a:ext cx="1828440" cy="552600"/>
            </a:xfrm>
            <a:prstGeom prst="rect">
              <a:avLst/>
            </a:prstGeom>
            <a:solidFill>
              <a:srgbClr val="b4d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968400" y="3467160"/>
              <a:ext cx="1021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M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17920" y="4746600"/>
              <a:ext cx="1828440" cy="509760"/>
            </a:xfrm>
            <a:prstGeom prst="rect">
              <a:avLst/>
            </a:prstGeom>
            <a:solidFill>
              <a:srgbClr val="b4d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193400" y="4848120"/>
              <a:ext cx="777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R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273480" y="3797280"/>
              <a:ext cx="1201320" cy="1054080"/>
            </a:xfrm>
            <a:prstGeom prst="rect">
              <a:avLst/>
            </a:prstGeom>
            <a:solidFill>
              <a:srgbClr val="b4d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457080" y="4168800"/>
              <a:ext cx="687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CO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855080" y="4324320"/>
              <a:ext cx="1298160" cy="3240"/>
            </a:xfrm>
            <a:custGeom>
              <a:avLst/>
              <a:gdLst/>
              <a:ahLst/>
              <a:rect l="l" t="t" r="r" b="b"/>
              <a:pathLst>
                <a:path w="484" h="0">
                  <a:moveTo>
                    <a:pt x="484" y="0"/>
                  </a:moveTo>
                  <a:lnTo>
                    <a:pt x="241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137400" y="4238640"/>
              <a:ext cx="120240" cy="16668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0" y="0"/>
                  </a:moveTo>
                  <a:lnTo>
                    <a:pt x="45" y="23"/>
                  </a:lnTo>
                  <a:lnTo>
                    <a:pt x="0" y="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550160" y="3897360"/>
              <a:ext cx="363240" cy="849240"/>
            </a:xfrm>
            <a:custGeom>
              <a:avLst/>
              <a:gdLst/>
              <a:ahLst/>
              <a:rect l="l" t="t" r="r" b="b"/>
              <a:pathLst>
                <a:path w="136" h="229">
                  <a:moveTo>
                    <a:pt x="34" y="195"/>
                  </a:moveTo>
                  <a:lnTo>
                    <a:pt x="0" y="195"/>
                  </a:lnTo>
                  <a:lnTo>
                    <a:pt x="68" y="229"/>
                  </a:lnTo>
                  <a:lnTo>
                    <a:pt x="136" y="195"/>
                  </a:lnTo>
                  <a:lnTo>
                    <a:pt x="102" y="195"/>
                  </a:lnTo>
                  <a:lnTo>
                    <a:pt x="102" y="35"/>
                  </a:lnTo>
                  <a:lnTo>
                    <a:pt x="136" y="35"/>
                  </a:lnTo>
                  <a:lnTo>
                    <a:pt x="68" y="0"/>
                  </a:lnTo>
                  <a:lnTo>
                    <a:pt x="0" y="35"/>
                  </a:lnTo>
                  <a:lnTo>
                    <a:pt x="34" y="35"/>
                  </a:lnTo>
                  <a:lnTo>
                    <a:pt x="34" y="19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550160" y="2833560"/>
              <a:ext cx="363240" cy="511200"/>
            </a:xfrm>
            <a:custGeom>
              <a:avLst/>
              <a:gdLst/>
              <a:ahLst/>
              <a:rect l="l" t="t" r="r" b="b"/>
              <a:pathLst>
                <a:path w="136" h="138">
                  <a:moveTo>
                    <a:pt x="34" y="104"/>
                  </a:moveTo>
                  <a:lnTo>
                    <a:pt x="0" y="104"/>
                  </a:lnTo>
                  <a:lnTo>
                    <a:pt x="68" y="138"/>
                  </a:lnTo>
                  <a:lnTo>
                    <a:pt x="136" y="104"/>
                  </a:lnTo>
                  <a:lnTo>
                    <a:pt x="102" y="104"/>
                  </a:lnTo>
                  <a:lnTo>
                    <a:pt x="102" y="35"/>
                  </a:lnTo>
                  <a:lnTo>
                    <a:pt x="136" y="35"/>
                  </a:lnTo>
                  <a:lnTo>
                    <a:pt x="68" y="0"/>
                  </a:lnTo>
                  <a:lnTo>
                    <a:pt x="0" y="35"/>
                  </a:lnTo>
                  <a:lnTo>
                    <a:pt x="34" y="35"/>
                  </a:lnTo>
                  <a:lnTo>
                    <a:pt x="34" y="10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550160" y="5256360"/>
              <a:ext cx="363240" cy="507960"/>
            </a:xfrm>
            <a:custGeom>
              <a:avLst/>
              <a:gdLst/>
              <a:ahLst/>
              <a:rect l="l" t="t" r="r" b="b"/>
              <a:pathLst>
                <a:path w="136" h="137">
                  <a:moveTo>
                    <a:pt x="34" y="103"/>
                  </a:moveTo>
                  <a:lnTo>
                    <a:pt x="0" y="103"/>
                  </a:lnTo>
                  <a:lnTo>
                    <a:pt x="68" y="137"/>
                  </a:lnTo>
                  <a:lnTo>
                    <a:pt x="136" y="103"/>
                  </a:lnTo>
                  <a:lnTo>
                    <a:pt x="102" y="103"/>
                  </a:lnTo>
                  <a:lnTo>
                    <a:pt x="102" y="35"/>
                  </a:lnTo>
                  <a:lnTo>
                    <a:pt x="136" y="35"/>
                  </a:lnTo>
                  <a:lnTo>
                    <a:pt x="68" y="0"/>
                  </a:lnTo>
                  <a:lnTo>
                    <a:pt x="0" y="35"/>
                  </a:lnTo>
                  <a:lnTo>
                    <a:pt x="34" y="35"/>
                  </a:lnTo>
                  <a:lnTo>
                    <a:pt x="34" y="10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5133960" y="2590920"/>
            <a:ext cx="3517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R DUPLICATE MM PCO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M DUPLICATE RR PCO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- Routing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96440" y="903240"/>
            <a:ext cx="256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outing - Test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2120" y="1523880"/>
            <a:ext cx="661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 of a single entity in the protocol stack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133960" y="2286000"/>
            <a:ext cx="28846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M REDIRECT CC TAP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M REDIRECT RR TAP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R REDIRECT MM NULL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C REDIRECT MM NULL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561960" y="2286000"/>
            <a:ext cx="4151160" cy="4038480"/>
            <a:chOff x="561960" y="2286000"/>
            <a:chExt cx="4151160" cy="4038480"/>
          </a:xfrm>
        </p:grpSpPr>
        <p:sp>
          <p:nvSpPr>
            <p:cNvPr id="419" name=""/>
            <p:cNvSpPr/>
            <p:nvPr/>
          </p:nvSpPr>
          <p:spPr>
            <a:xfrm>
              <a:off x="561960" y="2286000"/>
              <a:ext cx="4151160" cy="4038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46640" y="4027320"/>
              <a:ext cx="1830600" cy="562320"/>
            </a:xfrm>
            <a:prstGeom prst="rect">
              <a:avLst/>
            </a:prstGeom>
            <a:solidFill>
              <a:srgbClr val="b4d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97480" y="4151160"/>
              <a:ext cx="1021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MM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72920" y="5181480"/>
              <a:ext cx="1830600" cy="507960"/>
            </a:xfrm>
            <a:prstGeom prst="rect">
              <a:avLst/>
            </a:prstGeom>
            <a:solidFill>
              <a:srgbClr val="b4d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193400" y="5257800"/>
              <a:ext cx="713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R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204720" y="4481640"/>
              <a:ext cx="1201680" cy="1057320"/>
            </a:xfrm>
            <a:prstGeom prst="rect">
              <a:avLst/>
            </a:prstGeom>
            <a:solidFill>
              <a:srgbClr val="b4d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388320" y="4856040"/>
              <a:ext cx="649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AP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476360" y="5715000"/>
              <a:ext cx="367920" cy="50652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35" y="103"/>
                  </a:moveTo>
                  <a:lnTo>
                    <a:pt x="0" y="103"/>
                  </a:lnTo>
                  <a:lnTo>
                    <a:pt x="69" y="136"/>
                  </a:lnTo>
                  <a:lnTo>
                    <a:pt x="137" y="103"/>
                  </a:lnTo>
                  <a:lnTo>
                    <a:pt x="103" y="103"/>
                  </a:lnTo>
                  <a:lnTo>
                    <a:pt x="103" y="34"/>
                  </a:lnTo>
                  <a:lnTo>
                    <a:pt x="137" y="34"/>
                  </a:lnTo>
                  <a:lnTo>
                    <a:pt x="69" y="0"/>
                  </a:lnTo>
                  <a:lnTo>
                    <a:pt x="0" y="34"/>
                  </a:lnTo>
                  <a:lnTo>
                    <a:pt x="35" y="34"/>
                  </a:lnTo>
                  <a:lnTo>
                    <a:pt x="35" y="10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662480" y="4730760"/>
              <a:ext cx="1437840" cy="280800"/>
            </a:xfrm>
            <a:custGeom>
              <a:avLst/>
              <a:gdLst/>
              <a:ahLst/>
              <a:rect l="l" t="t" r="r" b="b"/>
              <a:pathLst>
                <a:path w="536" h="76">
                  <a:moveTo>
                    <a:pt x="0" y="0"/>
                  </a:moveTo>
                  <a:lnTo>
                    <a:pt x="0" y="76"/>
                  </a:lnTo>
                  <a:lnTo>
                    <a:pt x="536" y="7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602360" y="4589640"/>
              <a:ext cx="118440" cy="1634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0" y="44"/>
                  </a:moveTo>
                  <a:lnTo>
                    <a:pt x="22" y="0"/>
                  </a:lnTo>
                  <a:lnTo>
                    <a:pt x="44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084120" y="4927680"/>
              <a:ext cx="120240" cy="16668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0" y="0"/>
                  </a:moveTo>
                  <a:lnTo>
                    <a:pt x="45" y="23"/>
                  </a:lnTo>
                  <a:lnTo>
                    <a:pt x="0" y="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662480" y="3605040"/>
              <a:ext cx="1418760" cy="1151280"/>
            </a:xfrm>
            <a:custGeom>
              <a:avLst/>
              <a:gdLst/>
              <a:ahLst/>
              <a:rect l="l" t="t" r="r" b="b"/>
              <a:pathLst>
                <a:path w="529" h="310">
                  <a:moveTo>
                    <a:pt x="529" y="310"/>
                  </a:moveTo>
                  <a:lnTo>
                    <a:pt x="455" y="310"/>
                  </a:lnTo>
                  <a:lnTo>
                    <a:pt x="455" y="155"/>
                  </a:lnTo>
                  <a:lnTo>
                    <a:pt x="455" y="0"/>
                  </a:lnTo>
                  <a:lnTo>
                    <a:pt x="0" y="0"/>
                  </a:lnTo>
                  <a:lnTo>
                    <a:pt x="0" y="7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68280" y="4673520"/>
              <a:ext cx="120240" cy="163440"/>
            </a:xfrm>
            <a:custGeom>
              <a:avLst/>
              <a:gdLst/>
              <a:ahLst/>
              <a:rect l="l" t="t" r="r" b="b"/>
              <a:pathLst>
                <a:path w="45" h="44">
                  <a:moveTo>
                    <a:pt x="0" y="0"/>
                  </a:moveTo>
                  <a:lnTo>
                    <a:pt x="45" y="22"/>
                  </a:lnTo>
                  <a:lnTo>
                    <a:pt x="0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602360" y="3860640"/>
              <a:ext cx="118440" cy="166680"/>
            </a:xfrm>
            <a:custGeom>
              <a:avLst/>
              <a:gdLst/>
              <a:ahLst/>
              <a:rect l="l" t="t" r="r" b="b"/>
              <a:pathLst>
                <a:path w="44" h="45">
                  <a:moveTo>
                    <a:pt x="44" y="0"/>
                  </a:moveTo>
                  <a:lnTo>
                    <a:pt x="22" y="45"/>
                  </a:lnTo>
                  <a:lnTo>
                    <a:pt x="0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72920" y="2971800"/>
              <a:ext cx="1830600" cy="507960"/>
            </a:xfrm>
            <a:prstGeom prst="rect">
              <a:avLst/>
            </a:prstGeom>
            <a:solidFill>
              <a:srgbClr val="b4d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264320" y="3048120"/>
              <a:ext cx="649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C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476360" y="2438280"/>
              <a:ext cx="367920" cy="50652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35" y="103"/>
                  </a:moveTo>
                  <a:lnTo>
                    <a:pt x="0" y="103"/>
                  </a:lnTo>
                  <a:lnTo>
                    <a:pt x="69" y="136"/>
                  </a:lnTo>
                  <a:lnTo>
                    <a:pt x="137" y="103"/>
                  </a:lnTo>
                  <a:lnTo>
                    <a:pt x="103" y="103"/>
                  </a:lnTo>
                  <a:lnTo>
                    <a:pt x="103" y="34"/>
                  </a:lnTo>
                  <a:lnTo>
                    <a:pt x="137" y="34"/>
                  </a:lnTo>
                  <a:lnTo>
                    <a:pt x="69" y="0"/>
                  </a:lnTo>
                  <a:lnTo>
                    <a:pt x="0" y="34"/>
                  </a:lnTo>
                  <a:lnTo>
                    <a:pt x="35" y="34"/>
                  </a:lnTo>
                  <a:lnTo>
                    <a:pt x="35" y="10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p:transition>
    <p:zoom dir="in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- Routing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98600" y="903240"/>
            <a:ext cx="40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outing - Manipulation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2120" y="1523880"/>
            <a:ext cx="661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ipulation of primitive content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205240" y="2819520"/>
            <a:ext cx="3252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R REDIRECT MM TAP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M REDIRECT RR TAP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633240" y="2776680"/>
            <a:ext cx="4149720" cy="3387600"/>
            <a:chOff x="633240" y="2776680"/>
            <a:chExt cx="4149720" cy="3387600"/>
          </a:xfrm>
        </p:grpSpPr>
        <p:sp>
          <p:nvSpPr>
            <p:cNvPr id="441" name=""/>
            <p:cNvSpPr/>
            <p:nvPr/>
          </p:nvSpPr>
          <p:spPr>
            <a:xfrm>
              <a:off x="633240" y="2776680"/>
              <a:ext cx="4149720" cy="33876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17920" y="3505320"/>
              <a:ext cx="1828440" cy="542880"/>
            </a:xfrm>
            <a:prstGeom prst="rect">
              <a:avLst/>
            </a:prstGeom>
            <a:solidFill>
              <a:srgbClr val="b4d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547280" y="3657600"/>
              <a:ext cx="38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M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17920" y="4897440"/>
              <a:ext cx="1828440" cy="503280"/>
            </a:xfrm>
            <a:prstGeom prst="rect">
              <a:avLst/>
            </a:prstGeom>
            <a:solidFill>
              <a:srgbClr val="b4d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617840" y="5029200"/>
              <a:ext cx="32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R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273480" y="3948120"/>
              <a:ext cx="1201320" cy="1049400"/>
            </a:xfrm>
            <a:prstGeom prst="rect">
              <a:avLst/>
            </a:prstGeom>
            <a:solidFill>
              <a:srgbClr val="b4d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304440" y="4343400"/>
              <a:ext cx="777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AP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550160" y="2981160"/>
              <a:ext cx="363240" cy="511200"/>
            </a:xfrm>
            <a:custGeom>
              <a:avLst/>
              <a:gdLst/>
              <a:ahLst/>
              <a:rect l="l" t="t" r="r" b="b"/>
              <a:pathLst>
                <a:path w="136" h="138">
                  <a:moveTo>
                    <a:pt x="34" y="104"/>
                  </a:moveTo>
                  <a:lnTo>
                    <a:pt x="0" y="104"/>
                  </a:lnTo>
                  <a:lnTo>
                    <a:pt x="68" y="138"/>
                  </a:lnTo>
                  <a:lnTo>
                    <a:pt x="136" y="104"/>
                  </a:lnTo>
                  <a:lnTo>
                    <a:pt x="102" y="104"/>
                  </a:lnTo>
                  <a:lnTo>
                    <a:pt x="102" y="35"/>
                  </a:lnTo>
                  <a:lnTo>
                    <a:pt x="136" y="35"/>
                  </a:lnTo>
                  <a:lnTo>
                    <a:pt x="68" y="0"/>
                  </a:lnTo>
                  <a:lnTo>
                    <a:pt x="0" y="35"/>
                  </a:lnTo>
                  <a:lnTo>
                    <a:pt x="34" y="35"/>
                  </a:lnTo>
                  <a:lnTo>
                    <a:pt x="34" y="10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550160" y="5400720"/>
              <a:ext cx="363240" cy="511200"/>
            </a:xfrm>
            <a:custGeom>
              <a:avLst/>
              <a:gdLst/>
              <a:ahLst/>
              <a:rect l="l" t="t" r="r" b="b"/>
              <a:pathLst>
                <a:path w="136" h="138">
                  <a:moveTo>
                    <a:pt x="34" y="104"/>
                  </a:moveTo>
                  <a:lnTo>
                    <a:pt x="0" y="104"/>
                  </a:lnTo>
                  <a:lnTo>
                    <a:pt x="68" y="138"/>
                  </a:lnTo>
                  <a:lnTo>
                    <a:pt x="136" y="104"/>
                  </a:lnTo>
                  <a:lnTo>
                    <a:pt x="102" y="104"/>
                  </a:lnTo>
                  <a:lnTo>
                    <a:pt x="102" y="35"/>
                  </a:lnTo>
                  <a:lnTo>
                    <a:pt x="136" y="35"/>
                  </a:lnTo>
                  <a:lnTo>
                    <a:pt x="68" y="0"/>
                  </a:lnTo>
                  <a:lnTo>
                    <a:pt x="0" y="35"/>
                  </a:lnTo>
                  <a:lnTo>
                    <a:pt x="34" y="35"/>
                  </a:lnTo>
                  <a:lnTo>
                    <a:pt x="34" y="10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731960" y="4556160"/>
              <a:ext cx="1421280" cy="191880"/>
            </a:xfrm>
            <a:custGeom>
              <a:avLst/>
              <a:gdLst/>
              <a:ahLst/>
              <a:rect l="l" t="t" r="r" b="b"/>
              <a:pathLst>
                <a:path w="530" h="52">
                  <a:moveTo>
                    <a:pt x="0" y="52"/>
                  </a:moveTo>
                  <a:lnTo>
                    <a:pt x="0" y="0"/>
                  </a:lnTo>
                  <a:lnTo>
                    <a:pt x="53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670400" y="4730760"/>
              <a:ext cx="120240" cy="16668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45" y="0"/>
                  </a:moveTo>
                  <a:lnTo>
                    <a:pt x="23" y="45"/>
                  </a:lnTo>
                  <a:lnTo>
                    <a:pt x="0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137400" y="4475160"/>
              <a:ext cx="120240" cy="162000"/>
            </a:xfrm>
            <a:custGeom>
              <a:avLst/>
              <a:gdLst/>
              <a:ahLst/>
              <a:rect l="l" t="t" r="r" b="b"/>
              <a:pathLst>
                <a:path w="45" h="44">
                  <a:moveTo>
                    <a:pt x="0" y="0"/>
                  </a:moveTo>
                  <a:lnTo>
                    <a:pt x="45" y="22"/>
                  </a:lnTo>
                  <a:lnTo>
                    <a:pt x="0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731960" y="4192560"/>
              <a:ext cx="1421280" cy="196920"/>
            </a:xfrm>
            <a:custGeom>
              <a:avLst/>
              <a:gdLst/>
              <a:ahLst/>
              <a:rect l="l" t="t" r="r" b="b"/>
              <a:pathLst>
                <a:path w="530" h="53">
                  <a:moveTo>
                    <a:pt x="0" y="0"/>
                  </a:moveTo>
                  <a:lnTo>
                    <a:pt x="0" y="53"/>
                  </a:lnTo>
                  <a:lnTo>
                    <a:pt x="530" y="5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670400" y="4048200"/>
              <a:ext cx="120240" cy="163440"/>
            </a:xfrm>
            <a:custGeom>
              <a:avLst/>
              <a:gdLst/>
              <a:ahLst/>
              <a:rect l="l" t="t" r="r" b="b"/>
              <a:pathLst>
                <a:path w="45" h="44">
                  <a:moveTo>
                    <a:pt x="0" y="44"/>
                  </a:moveTo>
                  <a:lnTo>
                    <a:pt x="23" y="0"/>
                  </a:lnTo>
                  <a:lnTo>
                    <a:pt x="45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137400" y="4303800"/>
              <a:ext cx="120240" cy="16668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0" y="0"/>
                  </a:moveTo>
                  <a:lnTo>
                    <a:pt x="45" y="23"/>
                  </a:lnTo>
                  <a:lnTo>
                    <a:pt x="0" y="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p:transition>
    <p:zoom dir="in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- Routing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96800" y="903240"/>
            <a:ext cx="365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outing - Simulation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92120" y="1523880"/>
            <a:ext cx="773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 entities on different platforms (target, PC)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133960" y="2590920"/>
            <a:ext cx="35179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M REDIRECT RR NULL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M REDIRECT CC NULL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C REDIRECT MM XMM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R REDIRECT MM XMM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633240" y="2590920"/>
            <a:ext cx="4149720" cy="3390840"/>
            <a:chOff x="633240" y="2590920"/>
            <a:chExt cx="4149720" cy="3390840"/>
          </a:xfrm>
        </p:grpSpPr>
        <p:sp>
          <p:nvSpPr>
            <p:cNvPr id="461" name=""/>
            <p:cNvSpPr/>
            <p:nvPr/>
          </p:nvSpPr>
          <p:spPr>
            <a:xfrm>
              <a:off x="633240" y="2590920"/>
              <a:ext cx="4149720" cy="3390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17920" y="3981600"/>
              <a:ext cx="1829880" cy="55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17920" y="4538520"/>
              <a:ext cx="406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84880" y="4538520"/>
              <a:ext cx="410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952560" y="4538520"/>
              <a:ext cx="39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019880" y="4538520"/>
              <a:ext cx="39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086120" y="4538520"/>
              <a:ext cx="406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153080" y="4538520"/>
              <a:ext cx="410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220400" y="4538520"/>
              <a:ext cx="39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288080" y="4538520"/>
              <a:ext cx="42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354320" y="4538520"/>
              <a:ext cx="4356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421280" y="4538520"/>
              <a:ext cx="42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488600" y="4538520"/>
              <a:ext cx="42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556280" y="4538520"/>
              <a:ext cx="42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623600" y="4538520"/>
              <a:ext cx="42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689480" y="4538520"/>
              <a:ext cx="439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756800" y="4538520"/>
              <a:ext cx="42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824480" y="4538520"/>
              <a:ext cx="42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891800" y="4538520"/>
              <a:ext cx="42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957680" y="4538520"/>
              <a:ext cx="439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025000" y="4538520"/>
              <a:ext cx="42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095560" y="4538520"/>
              <a:ext cx="39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161440" y="4538520"/>
              <a:ext cx="410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228760" y="4538520"/>
              <a:ext cx="410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96080" y="4538520"/>
              <a:ext cx="39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63760" y="4538520"/>
              <a:ext cx="39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431080" y="4538520"/>
              <a:ext cx="39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496960" y="4538520"/>
              <a:ext cx="410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564280" y="4538520"/>
              <a:ext cx="406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631960" y="4505400"/>
              <a:ext cx="15840" cy="3312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6" y="10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2647800" y="4408200"/>
              <a:ext cx="2880" cy="6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2647800" y="4316040"/>
              <a:ext cx="2880" cy="58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2647800" y="4222440"/>
              <a:ext cx="2880" cy="6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2647800" y="4130640"/>
              <a:ext cx="2880" cy="5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2647800" y="4036680"/>
              <a:ext cx="2880" cy="57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618640" y="3981600"/>
              <a:ext cx="29160" cy="1908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11" y="5"/>
                  </a:moveTo>
                  <a:lnTo>
                    <a:pt x="11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2550600" y="3981600"/>
              <a:ext cx="3924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2483640" y="3981600"/>
              <a:ext cx="4104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2416320" y="3981600"/>
              <a:ext cx="4068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2350080" y="3981600"/>
              <a:ext cx="3924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2282400" y="3981600"/>
              <a:ext cx="3924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2215440" y="3981600"/>
              <a:ext cx="4068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2148120" y="3981600"/>
              <a:ext cx="4068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2081880" y="3981600"/>
              <a:ext cx="3924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>
              <a:off x="2014560" y="3981600"/>
              <a:ext cx="3924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1947240" y="3981600"/>
              <a:ext cx="3924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1879920" y="3981600"/>
              <a:ext cx="4068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1812240" y="3981600"/>
              <a:ext cx="4068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1746360" y="3981600"/>
              <a:ext cx="3924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1676520" y="3981600"/>
              <a:ext cx="4248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1608840" y="3981600"/>
              <a:ext cx="4356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1542960" y="3981600"/>
              <a:ext cx="4248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1475280" y="3981600"/>
              <a:ext cx="4212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>
              <a:off x="1408320" y="3981600"/>
              <a:ext cx="4248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1340640" y="3981600"/>
              <a:ext cx="4356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1274760" y="3981600"/>
              <a:ext cx="4248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>
              <a:off x="1207080" y="3981600"/>
              <a:ext cx="4212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1140120" y="3981600"/>
              <a:ext cx="4248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>
              <a:off x="1072440" y="3981600"/>
              <a:ext cx="4356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>
              <a:off x="1004760" y="3981600"/>
              <a:ext cx="4356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939600" y="3981600"/>
              <a:ext cx="4248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871560" y="3981600"/>
              <a:ext cx="3924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17920" y="3981600"/>
              <a:ext cx="27360" cy="1908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11" y="0"/>
                  </a:moveTo>
                  <a:lnTo>
                    <a:pt x="0" y="0"/>
                  </a:lnTo>
                  <a:lnTo>
                    <a:pt x="0" y="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17920" y="4037040"/>
              <a:ext cx="2520" cy="57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17920" y="4130640"/>
              <a:ext cx="2520" cy="5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17920" y="4222800"/>
              <a:ext cx="2520" cy="6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817920" y="4316400"/>
              <a:ext cx="2520" cy="58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817920" y="4408560"/>
              <a:ext cx="2520" cy="6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17920" y="4505400"/>
              <a:ext cx="252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617480" y="4152960"/>
              <a:ext cx="38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M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817920" y="4960800"/>
              <a:ext cx="1829880" cy="513000"/>
            </a:xfrm>
            <a:prstGeom prst="rect">
              <a:avLst/>
            </a:prstGeom>
            <a:solidFill>
              <a:srgbClr val="b4d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617840" y="5067360"/>
              <a:ext cx="32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R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305880" y="3733920"/>
              <a:ext cx="1201320" cy="1054080"/>
            </a:xfrm>
            <a:prstGeom prst="rect">
              <a:avLst/>
            </a:prstGeom>
            <a:solidFill>
              <a:srgbClr val="b4d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517560" y="4114800"/>
              <a:ext cx="100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MM(PC)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547640" y="5473800"/>
              <a:ext cx="367560" cy="422280"/>
            </a:xfrm>
            <a:custGeom>
              <a:avLst/>
              <a:gdLst/>
              <a:ahLst/>
              <a:rect l="l" t="t" r="r" b="b"/>
              <a:pathLst>
                <a:path w="137" h="114">
                  <a:moveTo>
                    <a:pt x="35" y="86"/>
                  </a:moveTo>
                  <a:lnTo>
                    <a:pt x="0" y="86"/>
                  </a:lnTo>
                  <a:lnTo>
                    <a:pt x="69" y="114"/>
                  </a:lnTo>
                  <a:lnTo>
                    <a:pt x="137" y="86"/>
                  </a:lnTo>
                  <a:lnTo>
                    <a:pt x="103" y="86"/>
                  </a:lnTo>
                  <a:lnTo>
                    <a:pt x="103" y="29"/>
                  </a:lnTo>
                  <a:lnTo>
                    <a:pt x="137" y="29"/>
                  </a:lnTo>
                  <a:lnTo>
                    <a:pt x="69" y="0"/>
                  </a:lnTo>
                  <a:lnTo>
                    <a:pt x="0" y="29"/>
                  </a:lnTo>
                  <a:lnTo>
                    <a:pt x="35" y="29"/>
                  </a:lnTo>
                  <a:lnTo>
                    <a:pt x="35" y="8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733760" y="4708440"/>
              <a:ext cx="1418040" cy="112680"/>
            </a:xfrm>
            <a:custGeom>
              <a:avLst/>
              <a:gdLst/>
              <a:ahLst/>
              <a:rect l="l" t="t" r="r" b="b"/>
              <a:pathLst>
                <a:path w="529" h="30">
                  <a:moveTo>
                    <a:pt x="0" y="30"/>
                  </a:moveTo>
                  <a:lnTo>
                    <a:pt x="0" y="0"/>
                  </a:lnTo>
                  <a:lnTo>
                    <a:pt x="529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673640" y="4799160"/>
              <a:ext cx="118440" cy="1616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44" y="0"/>
                  </a:moveTo>
                  <a:lnTo>
                    <a:pt x="22" y="44"/>
                  </a:lnTo>
                  <a:lnTo>
                    <a:pt x="0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138840" y="4624560"/>
              <a:ext cx="119880" cy="16668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0" y="0"/>
                  </a:moveTo>
                  <a:lnTo>
                    <a:pt x="45" y="23"/>
                  </a:lnTo>
                  <a:lnTo>
                    <a:pt x="0" y="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17920" y="2987640"/>
              <a:ext cx="1829880" cy="557280"/>
            </a:xfrm>
            <a:prstGeom prst="rect">
              <a:avLst/>
            </a:prstGeom>
            <a:solidFill>
              <a:srgbClr val="b4d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617840" y="3086280"/>
              <a:ext cx="32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C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547640" y="2671920"/>
              <a:ext cx="367560" cy="315720"/>
            </a:xfrm>
            <a:custGeom>
              <a:avLst/>
              <a:gdLst/>
              <a:ahLst/>
              <a:rect l="l" t="t" r="r" b="b"/>
              <a:pathLst>
                <a:path w="137" h="85">
                  <a:moveTo>
                    <a:pt x="35" y="64"/>
                  </a:moveTo>
                  <a:lnTo>
                    <a:pt x="0" y="64"/>
                  </a:lnTo>
                  <a:lnTo>
                    <a:pt x="69" y="85"/>
                  </a:lnTo>
                  <a:lnTo>
                    <a:pt x="137" y="64"/>
                  </a:lnTo>
                  <a:lnTo>
                    <a:pt x="103" y="64"/>
                  </a:lnTo>
                  <a:lnTo>
                    <a:pt x="103" y="22"/>
                  </a:lnTo>
                  <a:lnTo>
                    <a:pt x="137" y="22"/>
                  </a:lnTo>
                  <a:lnTo>
                    <a:pt x="69" y="0"/>
                  </a:lnTo>
                  <a:lnTo>
                    <a:pt x="0" y="22"/>
                  </a:lnTo>
                  <a:lnTo>
                    <a:pt x="35" y="22"/>
                  </a:lnTo>
                  <a:lnTo>
                    <a:pt x="35" y="6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733760" y="3692520"/>
              <a:ext cx="1418040" cy="166680"/>
            </a:xfrm>
            <a:custGeom>
              <a:avLst/>
              <a:gdLst/>
              <a:ahLst/>
              <a:rect l="l" t="t" r="r" b="b"/>
              <a:pathLst>
                <a:path w="529" h="45">
                  <a:moveTo>
                    <a:pt x="0" y="0"/>
                  </a:moveTo>
                  <a:lnTo>
                    <a:pt x="0" y="45"/>
                  </a:lnTo>
                  <a:lnTo>
                    <a:pt x="529" y="4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673640" y="3544920"/>
              <a:ext cx="118440" cy="166680"/>
            </a:xfrm>
            <a:custGeom>
              <a:avLst/>
              <a:gdLst/>
              <a:ahLst/>
              <a:rect l="l" t="t" r="r" b="b"/>
              <a:pathLst>
                <a:path w="44" h="45">
                  <a:moveTo>
                    <a:pt x="0" y="45"/>
                  </a:moveTo>
                  <a:lnTo>
                    <a:pt x="22" y="0"/>
                  </a:lnTo>
                  <a:lnTo>
                    <a:pt x="44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138840" y="3778200"/>
              <a:ext cx="119880" cy="16668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0" y="0"/>
                  </a:moveTo>
                  <a:lnTo>
                    <a:pt x="45" y="22"/>
                  </a:lnTo>
                  <a:lnTo>
                    <a:pt x="0" y="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p:transition>
    <p:zoom dir="in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7485120" y="3352680"/>
            <a:ext cx="1201680" cy="1067040"/>
          </a:xfrm>
          <a:prstGeom prst="rect">
            <a:avLst/>
          </a:prstGeom>
          <a:solidFill>
            <a:srgbClr val="b4d9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- Tracing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22280" y="1066680"/>
            <a:ext cx="8264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Way to Follow the System State without Debugger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47720" y="3646440"/>
            <a:ext cx="1830240" cy="561960"/>
          </a:xfrm>
          <a:prstGeom prst="rect">
            <a:avLst/>
          </a:prstGeom>
          <a:solidFill>
            <a:srgbClr val="b4d9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98920" y="3770280"/>
            <a:ext cx="1021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73280" y="4800600"/>
            <a:ext cx="1830240" cy="507960"/>
          </a:xfrm>
          <a:prstGeom prst="rect">
            <a:avLst/>
          </a:prstGeom>
          <a:solidFill>
            <a:srgbClr val="b4d9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194120" y="4876920"/>
            <a:ext cx="713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R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446640" y="3352680"/>
            <a:ext cx="1201680" cy="1067040"/>
          </a:xfrm>
          <a:prstGeom prst="rect">
            <a:avLst/>
          </a:prstGeom>
          <a:solidFill>
            <a:srgbClr val="b4d9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867840" y="3733920"/>
            <a:ext cx="43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476360" y="5334120"/>
            <a:ext cx="368280" cy="506160"/>
          </a:xfrm>
          <a:custGeom>
            <a:avLst/>
            <a:gdLst/>
            <a:ahLst/>
            <a:rect l="l" t="t" r="r" b="b"/>
            <a:pathLst>
              <a:path w="137" h="136">
                <a:moveTo>
                  <a:pt x="35" y="103"/>
                </a:moveTo>
                <a:lnTo>
                  <a:pt x="0" y="103"/>
                </a:lnTo>
                <a:lnTo>
                  <a:pt x="69" y="136"/>
                </a:lnTo>
                <a:lnTo>
                  <a:pt x="137" y="103"/>
                </a:lnTo>
                <a:lnTo>
                  <a:pt x="103" y="103"/>
                </a:lnTo>
                <a:lnTo>
                  <a:pt x="103" y="34"/>
                </a:lnTo>
                <a:lnTo>
                  <a:pt x="137" y="34"/>
                </a:lnTo>
                <a:lnTo>
                  <a:pt x="69" y="0"/>
                </a:lnTo>
                <a:lnTo>
                  <a:pt x="0" y="34"/>
                </a:lnTo>
                <a:lnTo>
                  <a:pt x="35" y="34"/>
                </a:lnTo>
                <a:lnTo>
                  <a:pt x="35" y="103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73280" y="2590920"/>
            <a:ext cx="1830240" cy="507960"/>
          </a:xfrm>
          <a:prstGeom prst="rect">
            <a:avLst/>
          </a:prstGeom>
          <a:solidFill>
            <a:srgbClr val="b4d9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265760" y="2666880"/>
            <a:ext cx="64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476360" y="2057400"/>
            <a:ext cx="368280" cy="506520"/>
          </a:xfrm>
          <a:custGeom>
            <a:avLst/>
            <a:gdLst/>
            <a:ahLst/>
            <a:rect l="l" t="t" r="r" b="b"/>
            <a:pathLst>
              <a:path w="137" h="136">
                <a:moveTo>
                  <a:pt x="35" y="103"/>
                </a:moveTo>
                <a:lnTo>
                  <a:pt x="0" y="103"/>
                </a:lnTo>
                <a:lnTo>
                  <a:pt x="69" y="136"/>
                </a:lnTo>
                <a:lnTo>
                  <a:pt x="137" y="103"/>
                </a:lnTo>
                <a:lnTo>
                  <a:pt x="103" y="103"/>
                </a:lnTo>
                <a:lnTo>
                  <a:pt x="103" y="34"/>
                </a:lnTo>
                <a:lnTo>
                  <a:pt x="137" y="34"/>
                </a:lnTo>
                <a:lnTo>
                  <a:pt x="69" y="0"/>
                </a:lnTo>
                <a:lnTo>
                  <a:pt x="0" y="34"/>
                </a:lnTo>
                <a:lnTo>
                  <a:pt x="35" y="34"/>
                </a:lnTo>
                <a:lnTo>
                  <a:pt x="35" y="103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767560" y="3352680"/>
            <a:ext cx="1201680" cy="1067040"/>
          </a:xfrm>
          <a:prstGeom prst="rect">
            <a:avLst/>
          </a:prstGeom>
          <a:solidFill>
            <a:srgbClr val="b4d9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771680" y="373392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CO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476360" y="4267080"/>
            <a:ext cx="368280" cy="506520"/>
          </a:xfrm>
          <a:custGeom>
            <a:avLst/>
            <a:gdLst/>
            <a:ahLst/>
            <a:rect l="l" t="t" r="r" b="b"/>
            <a:pathLst>
              <a:path w="137" h="136">
                <a:moveTo>
                  <a:pt x="35" y="103"/>
                </a:moveTo>
                <a:lnTo>
                  <a:pt x="0" y="103"/>
                </a:lnTo>
                <a:lnTo>
                  <a:pt x="69" y="136"/>
                </a:lnTo>
                <a:lnTo>
                  <a:pt x="137" y="103"/>
                </a:lnTo>
                <a:lnTo>
                  <a:pt x="103" y="103"/>
                </a:lnTo>
                <a:lnTo>
                  <a:pt x="103" y="34"/>
                </a:lnTo>
                <a:lnTo>
                  <a:pt x="137" y="34"/>
                </a:lnTo>
                <a:lnTo>
                  <a:pt x="69" y="0"/>
                </a:lnTo>
                <a:lnTo>
                  <a:pt x="0" y="34"/>
                </a:lnTo>
                <a:lnTo>
                  <a:pt x="35" y="34"/>
                </a:lnTo>
                <a:lnTo>
                  <a:pt x="35" y="103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476360" y="3124080"/>
            <a:ext cx="368280" cy="506520"/>
          </a:xfrm>
          <a:custGeom>
            <a:avLst/>
            <a:gdLst/>
            <a:ahLst/>
            <a:rect l="l" t="t" r="r" b="b"/>
            <a:pathLst>
              <a:path w="137" h="136">
                <a:moveTo>
                  <a:pt x="35" y="103"/>
                </a:moveTo>
                <a:lnTo>
                  <a:pt x="0" y="103"/>
                </a:lnTo>
                <a:lnTo>
                  <a:pt x="69" y="136"/>
                </a:lnTo>
                <a:lnTo>
                  <a:pt x="137" y="103"/>
                </a:lnTo>
                <a:lnTo>
                  <a:pt x="103" y="103"/>
                </a:lnTo>
                <a:lnTo>
                  <a:pt x="103" y="34"/>
                </a:lnTo>
                <a:lnTo>
                  <a:pt x="137" y="34"/>
                </a:lnTo>
                <a:lnTo>
                  <a:pt x="69" y="0"/>
                </a:lnTo>
                <a:lnTo>
                  <a:pt x="0" y="34"/>
                </a:lnTo>
                <a:lnTo>
                  <a:pt x="35" y="34"/>
                </a:lnTo>
                <a:lnTo>
                  <a:pt x="35" y="103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602080" y="2819520"/>
            <a:ext cx="42228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602080" y="3886200"/>
            <a:ext cx="844560" cy="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602080" y="5029200"/>
            <a:ext cx="42228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3024360" y="4114800"/>
            <a:ext cx="0" cy="91440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3024360" y="2819520"/>
            <a:ext cx="0" cy="83808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024360" y="3657600"/>
            <a:ext cx="422280" cy="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024360" y="4114800"/>
            <a:ext cx="422280" cy="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641840" y="3886200"/>
            <a:ext cx="1125720" cy="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171120" y="3747960"/>
            <a:ext cx="497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002360" y="3867120"/>
            <a:ext cx="482760" cy="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105520" y="1905120"/>
            <a:ext cx="0" cy="4190760"/>
          </a:xfrm>
          <a:prstGeom prst="line">
            <a:avLst/>
          </a:prstGeom>
          <a:ln cap="rnd" w="22320">
            <a:solidFill>
              <a:srgbClr val="00306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666840" y="5702400"/>
            <a:ext cx="743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349360" y="5761080"/>
            <a:ext cx="843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- Tracing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22280" y="1066680"/>
            <a:ext cx="80359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ce Functionality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 Classes 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31480" indent="-226080">
              <a:lnSpc>
                <a:spcPct val="11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Trac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CE_FUNCTION()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2" marL="1131480" indent="-226080">
              <a:lnSpc>
                <a:spcPct val="11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itive Trac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TRACE_IN(), PTRACE_OUT()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2" marL="1131480" indent="-226080">
              <a:lnSpc>
                <a:spcPct val="11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Trac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_STATE(), SET_STATE()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2" marL="1131480" indent="-226080">
              <a:lnSpc>
                <a:spcPct val="11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Trac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CE_ERROR()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2" marL="1131480" indent="-226080">
              <a:lnSpc>
                <a:spcPct val="11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 Trac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CE_EVENT()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2" marL="1131480" indent="-226080">
              <a:lnSpc>
                <a:spcPct val="11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Trac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in Frame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2" marL="1131480" indent="-226080">
              <a:lnSpc>
                <a:spcPct val="11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D Trac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in CCD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ison of trace class with trace mask in the frame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activation of traces via system primitive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ary coding of strings to be traced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tomer can define his own trace classe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– System Primitives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35320" y="954000"/>
            <a:ext cx="41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ead Resource Information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09480" y="1600200"/>
            <a:ext cx="8534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US TASK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: RR Stat: 6 Count: 288 Prio: 205 Stack: 871240 Size: 1736 Untouched: 808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US QUEUE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: RR Addr: 879188 Entries: 10 Used: 0 MaxUsed: 4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US PARTITION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: POOL10 Addr: 85c998 PoolSize: 7128 PartSize: 64 Free: 86 Used: 13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US MEMORY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: CONDAT Addr: 86e634 Size: 60000 Min: 4 Free: 12548 Suspend: 6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US SEMAPHORE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: CCD_COD Count: 1 Suspend: 11 Waiting: 0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842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– Partition Supervision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98240" y="903240"/>
            <a:ext cx="641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artition Pool Monitor - Functionality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92120" y="1600200"/>
            <a:ext cx="66121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nitoring of the partition state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wner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t user (file,line)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92120" y="3809880"/>
            <a:ext cx="52754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tistics on partition usage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zes of used partition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umbers of used partition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ump via test interface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849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– Partition Supervision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497880" y="903240"/>
            <a:ext cx="537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ition Pool Monitor - Output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92120" y="1447920"/>
            <a:ext cx="86518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cated Partition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PPM]: PARTITION 0x85ed88, OPC 0x0 STATE ALLOCATED OWNER UART, TIME 670, uart_dtxf.c,245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PPM]: PARTITION 0x85edd8, OPC 0x0 STATE ALLOCATED OWNER MMI, TIME 666, aci_lst.c,147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92120" y="2743200"/>
            <a:ext cx="83707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PPM]: POOL NAME: PRIM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PPM]: POOL 0 (size 60) 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PPM]: MAXBYTE  pool 0: 1849 byt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&gt; 61 %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PPM]: MAXBYTE  partitions pool 0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,   0,   3,  41,   1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PPM]: MAXPART  pool 0:  50 partition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&gt; 50 %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PPM]: MAXPART  partitions pool 0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,   0,   3,  41,   1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PPM]: MAXRANGE partitions pool 0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,   3,  11,  41,   4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PPM]: TOTAL    partitions pool 0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,  23, 541, 497, 115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ame Body Concept -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92120" y="914400"/>
            <a:ext cx="478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ftware Architecture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00200" y="5638680"/>
            <a:ext cx="6095880" cy="33732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TOS (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ucleus)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43200" y="5029200"/>
            <a:ext cx="0" cy="60948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324480" y="5029200"/>
            <a:ext cx="0" cy="60948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00200" y="4648320"/>
            <a:ext cx="2438280" cy="33732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viera Frame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3962520"/>
            <a:ext cx="685800" cy="33732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F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05120" y="3505320"/>
            <a:ext cx="685800" cy="33732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PD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09680" y="3048120"/>
            <a:ext cx="685800" cy="33732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2D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52680" y="3962520"/>
            <a:ext cx="685800" cy="33732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VT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14600" y="2590920"/>
            <a:ext cx="685800" cy="33732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886200"/>
            <a:ext cx="0" cy="76212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3429000"/>
            <a:ext cx="0" cy="121932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8120" y="2971800"/>
            <a:ext cx="0" cy="167652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33720" y="4343400"/>
            <a:ext cx="0" cy="30492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57600" y="4343400"/>
            <a:ext cx="0" cy="30492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4648320"/>
            <a:ext cx="2590560" cy="33732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PF Frame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05520" y="3962520"/>
            <a:ext cx="685800" cy="33732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R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10080" y="3505320"/>
            <a:ext cx="685800" cy="33732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15000" y="3048120"/>
            <a:ext cx="685800" cy="33732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010280" y="3962520"/>
            <a:ext cx="685800" cy="33732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ST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19920" y="2590920"/>
            <a:ext cx="685800" cy="33732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2133720"/>
            <a:ext cx="685800" cy="33732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53080" y="2971800"/>
            <a:ext cx="0" cy="167652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3429000"/>
            <a:ext cx="0" cy="121932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43600" y="3886200"/>
            <a:ext cx="0" cy="76212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38680" y="4343400"/>
            <a:ext cx="0" cy="30492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391520" y="4343400"/>
            <a:ext cx="0" cy="30492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0" y="2514600"/>
            <a:ext cx="0" cy="213372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00200" y="1523880"/>
            <a:ext cx="243828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81480" y="1523880"/>
            <a:ext cx="243864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rotocol Stack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– Error Handling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96800" y="903240"/>
            <a:ext cx="604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Error Handling – System Warnings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92120" y="1523880"/>
            <a:ext cx="804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 WARNING: Waited for space i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as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ueu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 WARNING: Waited for partition i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as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siz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iz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opc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pc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 WARNING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igger partition allocated than requested,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ask, siz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 WARNING: Partition Deallocation failed i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ask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 WARNING: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ask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reed partition stored in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task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queue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 WARNING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reed partition sen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ask, opc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 WARNING: Receiver proces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as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unknown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 WARNING: Invalid system primitive stri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 WARNING: Number of written &gt; requested partition size i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ile, lin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92120" y="4724280"/>
            <a:ext cx="857556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ystem warning results in 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ump of system state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r_diagnose_write (warning_string, DAR_WARNING, CONDAT_FRM_USE_ID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– Error Handling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95720" y="903240"/>
            <a:ext cx="541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ror Handling - System Errors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92120" y="1600200"/>
            <a:ext cx="81597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 ERROR: Number of Timers &gt; MAX_TIM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 ERROR: Number of entities &gt; MAX_ENTITIES 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 ERROR: Number of started timers &gt; MAX_SIMULTANEOUS_TIM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 ERROR: Number of created semaphores &gt; MAX_SEMAPHORES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 ERROR: Partition Guard Pattern destroy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ask, ptr, op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 ERROR: No Partition available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ask, size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 ERROR: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as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write attempt to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ueue failed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 ERROR: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as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Stack overflow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 ERROR: Error at creating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as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ueu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 ERROR: TimerIndex &gt; NumOfTimers for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ask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92120" y="4952880"/>
            <a:ext cx="80899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ystem error results in 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ump of system state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r_generate_emergency (error_string, ..., CONDAT_FRM_USE_ID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– Error Handling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97880" y="903240"/>
            <a:ext cx="632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ror Handling - System State Dump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92120" y="1600200"/>
            <a:ext cx="81597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ST: task state: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_READY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 state: 0 of 50 used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ST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_READY - Normal suspend, Link Register = 0x81186b 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ST: Processed Message: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GNAL opc: 0x8, time: 26149 ptr: 0x85f7bc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MI: task state: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_QUEUE_SUSPEND (MMI)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 state: 0 of 20 used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T: task state: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_READY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 state: 2 of 10 used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T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_READY - Normal suspend, Link Register = 0x810ded 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T: Messages in queue: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OUT opc: 0x1, time: 0 ptr: 0x0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T: Messages in queue: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MITIVE opc: 0x5600, time: 27916 ptr: 0x863c24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: task state: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_QUEUE_SUSPEND (SIM)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 state: 0 of 10 used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: task state: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_QUEUE_SUSPEND (CM)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 state: 0 of 10 used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MGMM: task state: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_READY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 state: 1 of 10 used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MGMM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_READY - IRQ suspend, Program Counter = 0x1ad54c 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MGMM: Processed Message:    PRIMITIVE opc: 0x8000, time: 26149 ptr: 0x85f82c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MGMM: Messages in queue:      PRIMITIVE opc: 0x4608, time: 26690 ptr: 0x85ff2c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349"/>
              </a:spcBef>
              <a:buClr>
                <a:srgbClr val="003069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ame Body Concept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92120" y="1295280"/>
            <a:ext cx="82710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Frame Functionality &amp; Interfaces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st Interface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System Setup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Layer 1 Interface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– Test Interface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492120" y="1219320"/>
            <a:ext cx="66121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ning as a Task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 Interface Functionality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from test system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primitives (configuration)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ocol primitive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to test system 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d protocol primitive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e exchange of driver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– Test Interface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95000" y="903240"/>
            <a:ext cx="435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Test Interface Driver List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41120" y="1219320"/>
            <a:ext cx="59072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639000" indent="-24552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639000" indent="-24552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r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Init()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639000" indent="-24552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to be notified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639000" indent="-24552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ault configuration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65560" y="3808440"/>
            <a:ext cx="7085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st T_DRV_LIST_ENTRY DrvList[] = 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{ NULL,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ULL,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ULL,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ULL },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{ "TIF",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IF_Init,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"TST",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ULL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},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{ "TR",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_Init,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ULL,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ULL },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{ "SER",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R_Init,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ULL,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amp;SER_DefaultConfig },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{ NULL,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ULL,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ULL,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ULL }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– Test Interface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92120" y="990720"/>
            <a:ext cx="8089920" cy="24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mitive Converter (PCON)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hange of primitives between platforms with different number representation (little vs. big endian)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hange of primitives between platforms with different alignment model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hange of primitives containing pointers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called in TIF driver when primitive is sent or received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– Test Interface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92120" y="990720"/>
            <a:ext cx="808992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amic Entity Configuration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strings transparently through TST and the frame to entity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703440" y="2209680"/>
            <a:ext cx="7525800" cy="2656080"/>
            <a:chOff x="703440" y="2209680"/>
            <a:chExt cx="7525800" cy="2656080"/>
          </a:xfrm>
        </p:grpSpPr>
        <p:sp>
          <p:nvSpPr>
            <p:cNvPr id="612" name=""/>
            <p:cNvSpPr/>
            <p:nvPr/>
          </p:nvSpPr>
          <p:spPr>
            <a:xfrm>
              <a:off x="703440" y="3948480"/>
              <a:ext cx="3938760" cy="368280"/>
            </a:xfrm>
            <a:prstGeom prst="rect">
              <a:avLst/>
            </a:prstGeom>
            <a:solidFill>
              <a:srgbClr val="b4d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rame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969200" y="4497480"/>
              <a:ext cx="105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03440" y="2209680"/>
              <a:ext cx="1688040" cy="785520"/>
            </a:xfrm>
            <a:prstGeom prst="rect">
              <a:avLst/>
            </a:prstGeom>
            <a:solidFill>
              <a:srgbClr val="b4d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grpSp>
          <p:nvGrpSpPr>
            <p:cNvPr id="615" name=""/>
            <p:cNvGrpSpPr/>
            <p:nvPr/>
          </p:nvGrpSpPr>
          <p:grpSpPr>
            <a:xfrm>
              <a:off x="3798000" y="2209680"/>
              <a:ext cx="914040" cy="785520"/>
              <a:chOff x="3798000" y="2209680"/>
              <a:chExt cx="914040" cy="785520"/>
            </a:xfrm>
          </p:grpSpPr>
          <p:sp>
            <p:nvSpPr>
              <p:cNvPr id="616" name=""/>
              <p:cNvSpPr/>
              <p:nvPr/>
            </p:nvSpPr>
            <p:spPr>
              <a:xfrm>
                <a:off x="3798000" y="2209680"/>
                <a:ext cx="844200" cy="78552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4008960" y="2484000"/>
                <a:ext cx="703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ST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sp>
          <p:nvSpPr>
            <p:cNvPr id="618" name=""/>
            <p:cNvSpPr/>
            <p:nvPr/>
          </p:nvSpPr>
          <p:spPr>
            <a:xfrm>
              <a:off x="1265760" y="2392920"/>
              <a:ext cx="70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MI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642200" y="2667240"/>
              <a:ext cx="2320920" cy="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963480" y="2209680"/>
              <a:ext cx="843840" cy="78552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033680" y="2484000"/>
              <a:ext cx="1195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xPanel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853160" y="2301120"/>
              <a:ext cx="2109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MI CONFIG AUTO_ATTACH</a:t>
              </a:r>
              <a:endParaRPr b="0" lang="en-US" sz="11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984240" y="2758680"/>
              <a:ext cx="112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ei_config()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>
              <a:off x="1476720" y="3124440"/>
              <a:ext cx="0" cy="82332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476720" y="3399480"/>
              <a:ext cx="13363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UTO_ATTACH</a:t>
              </a:r>
              <a:endParaRPr b="0" lang="en-US" sz="11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220280" y="3124800"/>
              <a:ext cx="0" cy="82332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703440" y="4495680"/>
            <a:ext cx="80596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Used for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ntity configuration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MM CONFIG MULTISLOT_CLASS=&lt;8&gt;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T command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MI CONFIG AT+CFUN=1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imer configuration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2R CONFIG TIMER_SET TUP_SND 1000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/>
          <p:nvPr/>
        </p:nvSpPr>
        <p:spPr>
          <a:xfrm>
            <a:off x="3306600" y="3962520"/>
            <a:ext cx="2532240" cy="190476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376440" y="2971800"/>
            <a:ext cx="844560" cy="91440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462040" y="2971800"/>
            <a:ext cx="844560" cy="91440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462040" y="3962520"/>
            <a:ext cx="844560" cy="91440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462040" y="4952880"/>
            <a:ext cx="844560" cy="91440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462040" y="3276720"/>
            <a:ext cx="844560" cy="368280"/>
          </a:xfrm>
          <a:prstGeom prst="rect">
            <a:avLst/>
          </a:prstGeom>
          <a:solidFill>
            <a:srgbClr val="b4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TST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462040" y="4267080"/>
            <a:ext cx="844560" cy="368280"/>
          </a:xfrm>
          <a:prstGeom prst="rect">
            <a:avLst/>
          </a:prstGeom>
          <a:solidFill>
            <a:srgbClr val="b4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462040" y="5181480"/>
            <a:ext cx="844560" cy="307080"/>
          </a:xfrm>
          <a:prstGeom prst="rect">
            <a:avLst/>
          </a:prstGeom>
          <a:solidFill>
            <a:srgbClr val="b4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_TRC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306600" y="4876920"/>
            <a:ext cx="914400" cy="99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446640" y="3276720"/>
            <a:ext cx="844200" cy="368280"/>
          </a:xfrm>
          <a:prstGeom prst="rect">
            <a:avLst/>
          </a:prstGeom>
          <a:solidFill>
            <a:srgbClr val="b4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ART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306600" y="4952880"/>
            <a:ext cx="844560" cy="91440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446640" y="5181480"/>
            <a:ext cx="704520" cy="368280"/>
          </a:xfrm>
          <a:prstGeom prst="rect">
            <a:avLst/>
          </a:prstGeom>
          <a:solidFill>
            <a:srgbClr val="b4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VT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221000" y="2971800"/>
            <a:ext cx="1617840" cy="91440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306600" y="3429000"/>
            <a:ext cx="6984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151160" y="5410080"/>
            <a:ext cx="6984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– Test Interface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68080" y="903240"/>
            <a:ext cx="76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Test Interface – Target Driver Configuration 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33240" y="2971800"/>
            <a:ext cx="1054440" cy="289548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758960" y="2971800"/>
            <a:ext cx="703080" cy="289548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828800" y="3886200"/>
            <a:ext cx="703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F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73280" y="426708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33240" y="2133720"/>
            <a:ext cx="2671920" cy="45720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181240" y="2209680"/>
            <a:ext cx="8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I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290840" y="3048120"/>
            <a:ext cx="2813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erial driver 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ER_fd...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109960" y="2590920"/>
            <a:ext cx="0" cy="38088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884320" y="2590920"/>
            <a:ext cx="0" cy="38088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687680" y="4419720"/>
            <a:ext cx="7128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219560" y="4343400"/>
            <a:ext cx="28144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erial driver 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ER_tr...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ame Body Concept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92120" y="1447920"/>
            <a:ext cx="82710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Frame Functionality &amp; Interfaces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Test Interface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stem Setup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Layer 1 Interface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ame Body Concept -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2120" y="914400"/>
            <a:ext cx="478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ftware Architecture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41760" y="5595840"/>
            <a:ext cx="1828800" cy="87480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TO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ucleus, WIN32, pSOS, VxWorks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541760" y="871560"/>
            <a:ext cx="4221360" cy="1143000"/>
            <a:chOff x="4541760" y="871560"/>
            <a:chExt cx="4221360" cy="1143000"/>
          </a:xfrm>
        </p:grpSpPr>
        <p:sp>
          <p:nvSpPr>
            <p:cNvPr id="119" name=""/>
            <p:cNvSpPr/>
            <p:nvPr/>
          </p:nvSpPr>
          <p:spPr>
            <a:xfrm>
              <a:off x="4541760" y="871560"/>
              <a:ext cx="4221360" cy="661680"/>
            </a:xfrm>
            <a:prstGeom prst="rect">
              <a:avLst/>
            </a:prstGeom>
            <a:solidFill>
              <a:srgbClr val="b4d9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Protocol Stack Entities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                           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ei_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807880" y="1557360"/>
              <a:ext cx="0" cy="45720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6089400" y="1557360"/>
              <a:ext cx="0" cy="45720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541760" y="2014560"/>
            <a:ext cx="2603520" cy="2514600"/>
            <a:chOff x="4541760" y="2014560"/>
            <a:chExt cx="2603520" cy="2514600"/>
          </a:xfrm>
        </p:grpSpPr>
        <p:sp>
          <p:nvSpPr>
            <p:cNvPr id="123" name=""/>
            <p:cNvSpPr/>
            <p:nvPr/>
          </p:nvSpPr>
          <p:spPr>
            <a:xfrm>
              <a:off x="4541760" y="2014560"/>
              <a:ext cx="1829520" cy="2057400"/>
            </a:xfrm>
            <a:prstGeom prst="rect">
              <a:avLst/>
            </a:prstGeom>
            <a:solidFill>
              <a:srgbClr val="b4d9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rame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si_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irtual OS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S Extensions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assive Model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Routing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Trace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Memory Supervision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Timer Configuration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tartup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878440" y="4071960"/>
              <a:ext cx="0" cy="45720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6160320" y="4071960"/>
              <a:ext cx="0" cy="457200"/>
            </a:xfrm>
            <a:prstGeom prst="line">
              <a:avLst/>
            </a:prstGeom>
            <a:ln w="12600">
              <a:solidFill>
                <a:srgbClr val="00306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160320" y="4147920"/>
              <a:ext cx="984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Callback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4541760" y="4529160"/>
            <a:ext cx="2482920" cy="1066680"/>
            <a:chOff x="4541760" y="4529160"/>
            <a:chExt cx="2482920" cy="1066680"/>
          </a:xfrm>
        </p:grpSpPr>
        <p:sp>
          <p:nvSpPr>
            <p:cNvPr id="128" name=""/>
            <p:cNvSpPr/>
            <p:nvPr/>
          </p:nvSpPr>
          <p:spPr>
            <a:xfrm>
              <a:off x="4541760" y="4529160"/>
              <a:ext cx="1829160" cy="615240"/>
            </a:xfrm>
            <a:prstGeom prst="rect">
              <a:avLst/>
            </a:prstGeom>
            <a:solidFill>
              <a:srgbClr val="b4d9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OS Layer        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os_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Adaptation to RTOS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878440" y="5214960"/>
              <a:ext cx="0" cy="38088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6159960" y="5214960"/>
              <a:ext cx="0" cy="380880"/>
            </a:xfrm>
            <a:prstGeom prst="line">
              <a:avLst/>
            </a:prstGeom>
            <a:ln w="12600">
              <a:solidFill>
                <a:srgbClr val="00306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159600" y="528624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Callback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6370560" y="1557360"/>
            <a:ext cx="2392200" cy="1332000"/>
            <a:chOff x="6370560" y="1557360"/>
            <a:chExt cx="2392200" cy="1332000"/>
          </a:xfrm>
        </p:grpSpPr>
        <p:sp>
          <p:nvSpPr>
            <p:cNvPr id="133" name=""/>
            <p:cNvSpPr/>
            <p:nvPr/>
          </p:nvSpPr>
          <p:spPr>
            <a:xfrm>
              <a:off x="7144560" y="2014560"/>
              <a:ext cx="1618200" cy="874800"/>
            </a:xfrm>
            <a:prstGeom prst="rect">
              <a:avLst/>
            </a:prstGeom>
            <a:solidFill>
              <a:srgbClr val="b4d9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Driver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ardware Abstraction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370560" y="2166840"/>
              <a:ext cx="774000" cy="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6370560" y="2471760"/>
              <a:ext cx="774000" cy="0"/>
            </a:xfrm>
            <a:prstGeom prst="line">
              <a:avLst/>
            </a:prstGeom>
            <a:ln w="12600">
              <a:solidFill>
                <a:srgbClr val="00306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440400" y="246672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Callback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848360" y="1557360"/>
              <a:ext cx="0" cy="45720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40400" y="1857240"/>
              <a:ext cx="5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_init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228600" y="3886200"/>
            <a:ext cx="35863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rtual System Interface (VSI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ocol Stack Entity Interface (PEI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rating System Interface (OS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713160" indent="-274320">
              <a:lnSpc>
                <a:spcPct val="11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– System Setup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96800" y="903240"/>
            <a:ext cx="341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Configuration Files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61960" y="1523880"/>
            <a:ext cx="661212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xxcomp.c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 list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xxdrv.c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interface driver list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xxinit.c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_Initialize() function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xxconst.h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and size of partition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tasks, timers, semaphore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33240" y="5486400"/>
            <a:ext cx="794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o frame recompilation when configuration files are changed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– System Setup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95720" y="903240"/>
            <a:ext cx="446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rovided Frame Libraries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61960" y="1523880"/>
            <a:ext cx="3376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 management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rs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aphores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interface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rs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s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services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006880" y="1523880"/>
            <a:ext cx="4289400" cy="32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nsions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na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cleus arm7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np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cleus MNT (PC Simulation)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32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d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ug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p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tion pool supervision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p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on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ning in internal RAM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f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ning in flash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61960" y="5029200"/>
            <a:ext cx="7456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rame_na7_db_fl.lib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target)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rame_npc_db_ps.lib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PC simulation)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– System Setup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97520" y="903240"/>
            <a:ext cx="36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equired Resources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61960" y="1752480"/>
            <a:ext cx="789624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brar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M [kB]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M[kB]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me_na7_db_fl.li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3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.7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me_na7_db_ir.li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8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c_na7_db_fl.lib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c_na7_db_ir.li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f_na7_db_fl.li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6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0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f_na7_db_ir.li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x_na7_db.li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ame Body Concept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92120" y="1295280"/>
            <a:ext cx="79660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Frame Functionality &amp; Interfaces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Test Interface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System Setup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yer 1 Interface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Layer 1 Interface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633240" y="1066680"/>
            <a:ext cx="2109960" cy="98604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ONDAT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ayer 2/3 Entities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ei_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657600" y="2971800"/>
            <a:ext cx="0" cy="45720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3095640" y="5486400"/>
            <a:ext cx="0" cy="45720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33240" y="3429000"/>
            <a:ext cx="4500720" cy="2057400"/>
          </a:xfrm>
          <a:prstGeom prst="rect">
            <a:avLst/>
          </a:prstGeom>
          <a:solidFill>
            <a:srgbClr val="669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ame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si_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rtual OS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S Extensions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ssive Model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ace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emory Supervision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imer Configuration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024360" y="1066680"/>
            <a:ext cx="2109600" cy="9860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I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ayer 1 asynchronous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ei_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024360" y="2590920"/>
            <a:ext cx="1266480" cy="3373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SX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587760" y="2133720"/>
            <a:ext cx="0" cy="45720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4572000" y="2133720"/>
            <a:ext cx="0" cy="1295280"/>
          </a:xfrm>
          <a:prstGeom prst="line">
            <a:avLst/>
          </a:prstGeom>
          <a:ln w="12600">
            <a:solidFill>
              <a:srgbClr val="00306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181240" y="2133720"/>
            <a:ext cx="0" cy="129528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758960" y="3429000"/>
            <a:ext cx="2251080" cy="38088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532240" y="3505320"/>
            <a:ext cx="70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si_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181240" y="5486400"/>
            <a:ext cx="0" cy="45720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697360" y="1066680"/>
            <a:ext cx="1828800" cy="10670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I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ayer 1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ynchronou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798720" y="2362320"/>
            <a:ext cx="0" cy="22860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3798720" y="2362320"/>
            <a:ext cx="281304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611760" y="2133720"/>
            <a:ext cx="0" cy="22860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1266840" y="2133720"/>
            <a:ext cx="0" cy="129528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281160" y="914400"/>
            <a:ext cx="8510400" cy="259092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81160" y="3505320"/>
            <a:ext cx="8510400" cy="13716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81160" y="4876920"/>
            <a:ext cx="8510400" cy="12952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4010040" y="1143000"/>
            <a:ext cx="2390400" cy="685800"/>
            <a:chOff x="4010040" y="1143000"/>
            <a:chExt cx="2390400" cy="685800"/>
          </a:xfrm>
        </p:grpSpPr>
        <p:sp>
          <p:nvSpPr>
            <p:cNvPr id="694" name=""/>
            <p:cNvSpPr/>
            <p:nvPr/>
          </p:nvSpPr>
          <p:spPr>
            <a:xfrm>
              <a:off x="4010040" y="1371600"/>
              <a:ext cx="1054800" cy="228600"/>
            </a:xfrm>
            <a:prstGeom prst="rect">
              <a:avLst/>
            </a:prstGeom>
            <a:solidFill>
              <a:srgbClr val="b4d9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221000" y="1371600"/>
              <a:ext cx="0" cy="22860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431960" y="1371600"/>
              <a:ext cx="0" cy="22860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642920" y="1371600"/>
              <a:ext cx="0" cy="22860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853880" y="1371600"/>
              <a:ext cx="0" cy="22860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064840" y="1143000"/>
              <a:ext cx="1335600" cy="685800"/>
            </a:xfrm>
            <a:prstGeom prst="rect">
              <a:avLst/>
            </a:prstGeom>
            <a:solidFill>
              <a:srgbClr val="b4d9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M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Layer 1 Interface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2181240" y="2362320"/>
            <a:ext cx="46418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3024360" y="5257800"/>
            <a:ext cx="2391840" cy="685800"/>
            <a:chOff x="3024360" y="5257800"/>
            <a:chExt cx="2391840" cy="685800"/>
          </a:xfrm>
        </p:grpSpPr>
        <p:sp>
          <p:nvSpPr>
            <p:cNvPr id="703" name=""/>
            <p:cNvSpPr/>
            <p:nvPr/>
          </p:nvSpPr>
          <p:spPr>
            <a:xfrm>
              <a:off x="3024360" y="5486400"/>
              <a:ext cx="1055160" cy="228600"/>
            </a:xfrm>
            <a:prstGeom prst="rect">
              <a:avLst/>
            </a:prstGeom>
            <a:solidFill>
              <a:srgbClr val="b4d9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235320" y="5486400"/>
              <a:ext cx="0" cy="22860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446280" y="5486400"/>
              <a:ext cx="0" cy="22860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657600" y="5486400"/>
              <a:ext cx="0" cy="22860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868560" y="5486400"/>
              <a:ext cx="0" cy="22860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079520" y="5257800"/>
              <a:ext cx="1336680" cy="685800"/>
            </a:xfrm>
            <a:prstGeom prst="rect">
              <a:avLst/>
            </a:prstGeom>
            <a:solidFill>
              <a:srgbClr val="b4d9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1A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709" name=""/>
          <p:cNvSpPr/>
          <p:nvPr/>
        </p:nvSpPr>
        <p:spPr>
          <a:xfrm>
            <a:off x="703440" y="5257800"/>
            <a:ext cx="1336320" cy="609480"/>
          </a:xfrm>
          <a:prstGeom prst="ellipse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1S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3024360" y="3886200"/>
            <a:ext cx="2391840" cy="685800"/>
            <a:chOff x="3024360" y="3886200"/>
            <a:chExt cx="2391840" cy="685800"/>
          </a:xfrm>
        </p:grpSpPr>
        <p:sp>
          <p:nvSpPr>
            <p:cNvPr id="711" name=""/>
            <p:cNvSpPr/>
            <p:nvPr/>
          </p:nvSpPr>
          <p:spPr>
            <a:xfrm>
              <a:off x="3024360" y="4114800"/>
              <a:ext cx="1055160" cy="228600"/>
            </a:xfrm>
            <a:prstGeom prst="rect">
              <a:avLst/>
            </a:prstGeom>
            <a:solidFill>
              <a:srgbClr val="b4d9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235320" y="4114800"/>
              <a:ext cx="0" cy="22860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446280" y="4114800"/>
              <a:ext cx="0" cy="22860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657600" y="4114800"/>
              <a:ext cx="0" cy="22860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68560" y="4114800"/>
              <a:ext cx="0" cy="22860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079520" y="3886200"/>
              <a:ext cx="1336680" cy="685800"/>
            </a:xfrm>
            <a:prstGeom prst="rect">
              <a:avLst/>
            </a:prstGeom>
            <a:solidFill>
              <a:srgbClr val="b4d9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PC/ALR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3516480" y="1828800"/>
            <a:ext cx="2391840" cy="685800"/>
            <a:chOff x="3516480" y="1828800"/>
            <a:chExt cx="2391840" cy="685800"/>
          </a:xfrm>
        </p:grpSpPr>
        <p:sp>
          <p:nvSpPr>
            <p:cNvPr id="718" name=""/>
            <p:cNvSpPr/>
            <p:nvPr/>
          </p:nvSpPr>
          <p:spPr>
            <a:xfrm>
              <a:off x="3516480" y="2057400"/>
              <a:ext cx="1055160" cy="228600"/>
            </a:xfrm>
            <a:prstGeom prst="rect">
              <a:avLst/>
            </a:prstGeom>
            <a:solidFill>
              <a:srgbClr val="b4d9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727440" y="2057400"/>
              <a:ext cx="0" cy="22860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938400" y="2057400"/>
              <a:ext cx="0" cy="22860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149720" y="2057400"/>
              <a:ext cx="0" cy="22860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360680" y="2057400"/>
              <a:ext cx="0" cy="22860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71640" y="1828800"/>
              <a:ext cx="1336680" cy="685800"/>
            </a:xfrm>
            <a:prstGeom prst="rect">
              <a:avLst/>
            </a:prstGeom>
            <a:solidFill>
              <a:srgbClr val="b4d9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R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724" name=""/>
          <p:cNvGrpSpPr/>
          <p:nvPr/>
        </p:nvGrpSpPr>
        <p:grpSpPr>
          <a:xfrm>
            <a:off x="3024360" y="2514600"/>
            <a:ext cx="2391840" cy="685800"/>
            <a:chOff x="3024360" y="2514600"/>
            <a:chExt cx="2391840" cy="685800"/>
          </a:xfrm>
        </p:grpSpPr>
        <p:sp>
          <p:nvSpPr>
            <p:cNvPr id="725" name=""/>
            <p:cNvSpPr/>
            <p:nvPr/>
          </p:nvSpPr>
          <p:spPr>
            <a:xfrm>
              <a:off x="3024360" y="2743200"/>
              <a:ext cx="1055160" cy="228600"/>
            </a:xfrm>
            <a:prstGeom prst="rect">
              <a:avLst/>
            </a:prstGeom>
            <a:solidFill>
              <a:srgbClr val="b4d9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235320" y="2743200"/>
              <a:ext cx="0" cy="22860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446280" y="2743200"/>
              <a:ext cx="0" cy="22860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657600" y="2743200"/>
              <a:ext cx="0" cy="22860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868560" y="2743200"/>
              <a:ext cx="0" cy="22860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079520" y="2514600"/>
              <a:ext cx="1336680" cy="685800"/>
            </a:xfrm>
            <a:prstGeom prst="rect">
              <a:avLst/>
            </a:prstGeom>
            <a:solidFill>
              <a:srgbClr val="b4d9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L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731" name=""/>
          <p:cNvSpPr/>
          <p:nvPr/>
        </p:nvSpPr>
        <p:spPr>
          <a:xfrm>
            <a:off x="6861960" y="1981080"/>
            <a:ext cx="181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ondat Layer 2/3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858000" y="3886200"/>
            <a:ext cx="162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 Adaptation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861240" y="5334120"/>
            <a:ext cx="112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I Layer 1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03440" y="5105520"/>
            <a:ext cx="280800" cy="22860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82240" y="525456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RQ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039760" y="5638680"/>
            <a:ext cx="984600" cy="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462040" y="5562720"/>
            <a:ext cx="562320" cy="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782960" y="4572000"/>
            <a:ext cx="0" cy="15228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2462040" y="5105520"/>
            <a:ext cx="0" cy="45720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H="1">
            <a:off x="2461680" y="4724280"/>
            <a:ext cx="2320920" cy="38124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4782960" y="4952880"/>
            <a:ext cx="0" cy="15264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462040" y="4724280"/>
            <a:ext cx="2320920" cy="22860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462040" y="4267080"/>
            <a:ext cx="0" cy="45720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462040" y="4267080"/>
            <a:ext cx="562320" cy="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703440" y="5105520"/>
            <a:ext cx="0" cy="15228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H="1" flipV="1">
            <a:off x="421920" y="4952520"/>
            <a:ext cx="281160" cy="30492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782960" y="3200400"/>
            <a:ext cx="0" cy="15228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H="1">
            <a:off x="2461680" y="3352680"/>
            <a:ext cx="2320920" cy="38124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4782960" y="3581280"/>
            <a:ext cx="0" cy="15264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462040" y="3352680"/>
            <a:ext cx="2320920" cy="22860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462040" y="2895480"/>
            <a:ext cx="0" cy="45720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462040" y="2895480"/>
            <a:ext cx="562320" cy="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462040" y="4191120"/>
            <a:ext cx="562320" cy="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2462040" y="3733920"/>
            <a:ext cx="0" cy="45720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462040" y="2819520"/>
            <a:ext cx="562320" cy="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954160" y="2209680"/>
            <a:ext cx="562320" cy="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446640" y="1523880"/>
            <a:ext cx="563400" cy="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406520" y="2666880"/>
            <a:ext cx="914400" cy="6098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52440" y="3886200"/>
            <a:ext cx="914400" cy="60948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unc(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550880" y="278928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unc(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1476360" y="3276360"/>
            <a:ext cx="352440" cy="198108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H="1" flipV="1">
            <a:off x="844200" y="4495320"/>
            <a:ext cx="351000" cy="76212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4290840" y="3048120"/>
            <a:ext cx="4361040" cy="1143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290840" y="1905120"/>
            <a:ext cx="4361040" cy="1143000"/>
          </a:xfrm>
          <a:prstGeom prst="rect">
            <a:avLst/>
          </a:prstGeom>
          <a:solidFill>
            <a:srgbClr val="b4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462040" y="1905120"/>
            <a:ext cx="1828800" cy="2286000"/>
          </a:xfrm>
          <a:prstGeom prst="rect">
            <a:avLst/>
          </a:prstGeom>
          <a:solidFill>
            <a:srgbClr val="b4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462040" y="4191120"/>
            <a:ext cx="6189840" cy="11430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92120" y="1905120"/>
            <a:ext cx="1969920" cy="3429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73280" y="3276720"/>
            <a:ext cx="1477800" cy="609480"/>
          </a:xfrm>
          <a:prstGeom prst="ellipse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_Initialize(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73280" y="2133720"/>
            <a:ext cx="1477800" cy="609480"/>
          </a:xfrm>
          <a:prstGeom prst="ellipse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C_Initialize(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673360" y="2133720"/>
            <a:ext cx="1406520" cy="6094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pp_Initialize()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673360" y="3276720"/>
            <a:ext cx="1406520" cy="6094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askEntry(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673360" y="4419720"/>
            <a:ext cx="1406520" cy="609480"/>
          </a:xfrm>
          <a:prstGeom prst="ellipse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1A_task(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502160" y="3276720"/>
            <a:ext cx="1406520" cy="60948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s_alloc_prim()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541920" y="3276720"/>
            <a:ext cx="1406520" cy="60948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s_send_sig()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541920" y="2133720"/>
            <a:ext cx="1406520" cy="6094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si_c_send(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502160" y="2133720"/>
            <a:ext cx="1406520" cy="6094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si_c_new(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049440" y="334656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049440" y="227952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127160" y="464184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64840" y="1058760"/>
            <a:ext cx="44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Arial"/>
              </a:rPr>
              <a:t>Startup and L1 Frame Acces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1476360" y="4419360"/>
            <a:ext cx="0" cy="22860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V="1">
            <a:off x="1476360" y="3886200"/>
            <a:ext cx="0" cy="38088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267560" y="4108320"/>
            <a:ext cx="4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1476360" y="2743200"/>
            <a:ext cx="0" cy="53352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251080" y="2438280"/>
            <a:ext cx="422280" cy="0"/>
          </a:xfrm>
          <a:prstGeom prst="line">
            <a:avLst/>
          </a:prstGeom>
          <a:ln cap="rnd" w="12600">
            <a:solidFill>
              <a:srgbClr val="003069"/>
            </a:solidFill>
            <a:custDash>
              <a:ds d="100000" sp="1000"/>
            </a:custDash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376440" y="2743200"/>
            <a:ext cx="0" cy="533520"/>
          </a:xfrm>
          <a:prstGeom prst="line">
            <a:avLst/>
          </a:prstGeom>
          <a:ln w="12600">
            <a:solidFill>
              <a:srgbClr val="003069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376440" y="3886200"/>
            <a:ext cx="0" cy="53352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486400" y="4419720"/>
            <a:ext cx="1406520" cy="609480"/>
          </a:xfrm>
          <a:prstGeom prst="ellipse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1S_HISR(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3868560" y="3809520"/>
            <a:ext cx="984600" cy="68580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4079880" y="3809880"/>
            <a:ext cx="2673360" cy="99072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V="1">
            <a:off x="6753240" y="3885840"/>
            <a:ext cx="420840" cy="68580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 flipV="1">
            <a:off x="5486040" y="3885840"/>
            <a:ext cx="281160" cy="60948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V="1">
            <a:off x="5205240" y="2743200"/>
            <a:ext cx="0" cy="53352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7245360" y="2743200"/>
            <a:ext cx="0" cy="53352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462040" y="1905120"/>
            <a:ext cx="618984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8651880" y="1904760"/>
            <a:ext cx="0" cy="114300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8231760" y="494676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7810560" y="3803760"/>
            <a:ext cx="83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SX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7698240" y="2660760"/>
            <a:ext cx="104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DAT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353240" y="5022720"/>
            <a:ext cx="116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364560" y="280368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TO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Layer 1 Interface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- Documentation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492120" y="1219320"/>
            <a:ext cx="7315200" cy="22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e Users Guide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434.100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SI/PEI Interface Descrip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415.033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nterface Descrip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415.036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5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3657600" y="2666880"/>
            <a:ext cx="3868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66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92120" y="1828800"/>
            <a:ext cx="2391840" cy="3111480"/>
            <a:chOff x="492120" y="1828800"/>
            <a:chExt cx="2391840" cy="3111480"/>
          </a:xfrm>
        </p:grpSpPr>
        <p:sp>
          <p:nvSpPr>
            <p:cNvPr id="142" name=""/>
            <p:cNvSpPr/>
            <p:nvPr/>
          </p:nvSpPr>
          <p:spPr>
            <a:xfrm>
              <a:off x="492120" y="3733560"/>
              <a:ext cx="2321640" cy="785520"/>
            </a:xfrm>
            <a:prstGeom prst="rect">
              <a:avLst/>
            </a:prstGeom>
            <a:solidFill>
              <a:srgbClr val="0063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RTOS (Nucleus)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92120" y="2971800"/>
              <a:ext cx="2321640" cy="368280"/>
            </a:xfrm>
            <a:prstGeom prst="rect">
              <a:avLst/>
            </a:prstGeom>
            <a:solidFill>
              <a:srgbClr val="b4d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rame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92120" y="3352680"/>
              <a:ext cx="2321640" cy="368280"/>
            </a:xfrm>
            <a:prstGeom prst="rect">
              <a:avLst/>
            </a:prstGeom>
            <a:solidFill>
              <a:srgbClr val="66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OS - Layer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73640" y="1828800"/>
              <a:ext cx="844200" cy="785520"/>
            </a:xfrm>
            <a:prstGeom prst="rect">
              <a:avLst/>
            </a:prstGeom>
            <a:solidFill>
              <a:srgbClr val="b4d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84600" y="4572000"/>
              <a:ext cx="105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Target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69560" y="2133360"/>
              <a:ext cx="844200" cy="78552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2520" y="1981080"/>
              <a:ext cx="844200" cy="785520"/>
            </a:xfrm>
            <a:prstGeom prst="rect">
              <a:avLst/>
            </a:prstGeom>
            <a:solidFill>
              <a:srgbClr val="b4d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92120" y="2133360"/>
              <a:ext cx="844200" cy="785520"/>
            </a:xfrm>
            <a:prstGeom prst="rect">
              <a:avLst/>
            </a:prstGeom>
            <a:solidFill>
              <a:srgbClr val="b4d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180520" y="2361960"/>
              <a:ext cx="70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ST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03080" y="2361960"/>
              <a:ext cx="70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R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2813040" y="2133720"/>
            <a:ext cx="5838480" cy="2806560"/>
            <a:chOff x="2813040" y="2133720"/>
            <a:chExt cx="5838480" cy="2806560"/>
          </a:xfrm>
        </p:grpSpPr>
        <p:sp>
          <p:nvSpPr>
            <p:cNvPr id="153" name=""/>
            <p:cNvSpPr/>
            <p:nvPr/>
          </p:nvSpPr>
          <p:spPr>
            <a:xfrm>
              <a:off x="5063760" y="3733920"/>
              <a:ext cx="3587760" cy="785520"/>
            </a:xfrm>
            <a:prstGeom prst="rect">
              <a:avLst/>
            </a:prstGeom>
            <a:solidFill>
              <a:srgbClr val="0063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CMS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TOS (Windows)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063760" y="2971800"/>
              <a:ext cx="2673000" cy="368280"/>
            </a:xfrm>
            <a:prstGeom prst="rect">
              <a:avLst/>
            </a:prstGeom>
            <a:solidFill>
              <a:srgbClr val="b4d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rame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63760" y="3352680"/>
              <a:ext cx="2673000" cy="368280"/>
            </a:xfrm>
            <a:prstGeom prst="rect">
              <a:avLst/>
            </a:prstGeom>
            <a:solidFill>
              <a:srgbClr val="66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OS - Layer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330240" y="4572000"/>
              <a:ext cx="105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ools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92920" y="2133720"/>
              <a:ext cx="843840" cy="785520"/>
            </a:xfrm>
            <a:prstGeom prst="rect">
              <a:avLst/>
            </a:prstGeom>
            <a:solidFill>
              <a:srgbClr val="b4d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978520" y="2133720"/>
              <a:ext cx="843840" cy="785520"/>
            </a:xfrm>
            <a:prstGeom prst="rect">
              <a:avLst/>
            </a:prstGeom>
            <a:solidFill>
              <a:srgbClr val="b4d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5063760" y="2133720"/>
              <a:ext cx="914040" cy="785520"/>
              <a:chOff x="5063760" y="2133720"/>
              <a:chExt cx="914040" cy="785520"/>
            </a:xfrm>
          </p:grpSpPr>
          <p:sp>
            <p:nvSpPr>
              <p:cNvPr id="160" name=""/>
              <p:cNvSpPr/>
              <p:nvPr/>
            </p:nvSpPr>
            <p:spPr>
              <a:xfrm>
                <a:off x="5063760" y="2133720"/>
                <a:ext cx="843840" cy="78552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274720" y="2361960"/>
                <a:ext cx="703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ST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6048720" y="2362320"/>
              <a:ext cx="84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xPanel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063760" y="4114800"/>
              <a:ext cx="3587760" cy="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3680" y="2362320"/>
              <a:ext cx="70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AP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807680" y="2133720"/>
              <a:ext cx="843840" cy="1600200"/>
            </a:xfrm>
            <a:prstGeom prst="rect">
              <a:avLst/>
            </a:prstGeom>
            <a:solidFill>
              <a:srgbClr val="b4d9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948080" y="2362320"/>
              <a:ext cx="70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CO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13040" y="2514600"/>
              <a:ext cx="2250720" cy="0"/>
            </a:xfrm>
            <a:prstGeom prst="line">
              <a:avLst/>
            </a:prstGeom>
            <a:ln w="38160">
              <a:solidFill>
                <a:srgbClr val="00306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1055520" y="5334120"/>
            <a:ext cx="68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he same frame is used for target and tools !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280" y="990720"/>
            <a:ext cx="51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rame in Target and Tool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2813040" y="2133720"/>
            <a:ext cx="2250720" cy="785520"/>
            <a:chOff x="2813040" y="2133720"/>
            <a:chExt cx="2250720" cy="785520"/>
          </a:xfrm>
        </p:grpSpPr>
        <p:sp>
          <p:nvSpPr>
            <p:cNvPr id="171" name=""/>
            <p:cNvSpPr/>
            <p:nvPr/>
          </p:nvSpPr>
          <p:spPr>
            <a:xfrm>
              <a:off x="2813040" y="2133720"/>
              <a:ext cx="773640" cy="78552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82880" y="2362320"/>
              <a:ext cx="56268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VT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290120" y="2133720"/>
              <a:ext cx="773640" cy="78552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360320" y="2362320"/>
              <a:ext cx="703440" cy="368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UX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586680" y="2514600"/>
              <a:ext cx="703440" cy="0"/>
            </a:xfrm>
            <a:prstGeom prst="line">
              <a:avLst/>
            </a:prstGeom>
            <a:ln w="38160">
              <a:solidFill>
                <a:srgbClr val="00306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95720" y="903240"/>
            <a:ext cx="40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rotocol Stack Entities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1960" y="1752480"/>
            <a:ext cx="70344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ities implement the protocol functionality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machin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of the GSM/GPRS/UMTS specification (e.g. GSM 04.08)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direct access to RTOS resource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loop of process (active body)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96800" y="903240"/>
            <a:ext cx="355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Functionality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61960" y="1523880"/>
            <a:ext cx="72104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 Management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 Management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r Management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Interfac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TOS Acces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loops of processes (passive body)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96440" y="903240"/>
            <a:ext cx="405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OS Layer Functionality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61960" y="1600200"/>
            <a:ext cx="7896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ation to the RTO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TOS dependent diagnos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form dependencies – Nucleus MNT &amp; ARM7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nterface is independent of RTO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5T08:39:10Z</dcterms:created>
  <dc:creator>kk</dc:creator>
  <dc:description/>
  <dc:language>en-US</dc:language>
  <cp:lastModifiedBy>mp</cp:lastModifiedBy>
  <dcterms:modified xsi:type="dcterms:W3CDTF">2003-06-23T09:56:57Z</dcterms:modified>
  <cp:revision>38</cp:revision>
  <dc:subject/>
  <dc:title>PowerPoint-Präsentation</dc:title>
</cp:coreProperties>
</file>